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5B5-5ED0-4D44-B766-804EDE85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A90-2AFD-41FC-9304-4C472A5F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C96-C541-4F8D-B0B0-F1189284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339-EDA6-4598-A1F0-5AAF3EA4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2D1-EB63-402A-A1BF-1FD429A9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614-8374-443B-A61F-AF993D55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B84-0C1E-44E5-8974-066DB66A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551-514A-4C94-8833-99F2551D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5D4-6D7F-4028-86E4-6C0719FA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D55-C31C-4446-B4FD-B2D308AA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567-6CB8-4A9C-A2BB-A95095C8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E3F-CC42-44B7-A0A9-9C7406F6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839B-FEFF-4FAB-94DC-281EA7829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tprocesor za C/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-76320" y="-304920"/>
          <a:ext cx="7467840" cy="745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-304920"/>
                    <a:ext cx="7467840" cy="74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76560" y="1112760"/>
            <a:ext cx="426708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brada makrodefinicija 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(direktive #define i #und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Tabela makrodefini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eli makrodefinicij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las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SMacro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rodefinicije je moguće dodati u tabelu (servi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ji ima dve varijante u zavisnosti od toga da li je reč o preddefinisanoj ili "običnoj" makrodefinicij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loniti iz tabele (ako je to dozvoljeno) - servi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žiti u tabeli na osnovu imena - servi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ook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brada makrodefini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ka makrodefinicija (instanca klas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SMac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ima ime, listu formalnih argumenata (instanca klas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SMacroAr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 telo (instancu klas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SMacroBo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okviru konstruktora klas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SMac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čita se sa ulaza (iz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putBuff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) kompletna makrodefinici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Obrada imena i formalnih parameta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SMacroAr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ču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u imena svih formalnih argumenat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jihov broj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li makro ima zagrade ili ne (nije svejedno za makro sa 0 argumenata da li je definisan sa zagradama ili nij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brada tela makrodefini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s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SMacro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ira telo makroa i u njemu identifikuje formalne argumente i makrooperatore # i ##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o se pamti kao lista instanci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SMacroBodyE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vaki elemenat tela ime dve glavne kompon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tx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j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o tela koji sadrži običan teks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 poj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ara ili opera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obrojni indeks formalnog argumenta (u listi argumenata) koji treba pri ekspanziji ubaciti iza txt-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Režimi zamene argume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 svaki formalni argument 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BodyEl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mti se u promenljivoj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rg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režim zamene argumenta stvarnim parametrom pri ekspanziji makroa koji može b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S_AR_N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što znači da stvarni argument treba da se ubaci neekspandovan (znači onakav kakav je pokupljen iz liste stvarnih argumenata)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o se primenljuje u slučaju kada je formalni argument jedan od operanada operatora konkatenacije ##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FS_AR_STR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što znači da stvarni parametar treba uokviriti navodnicima pri čemu treba dodati znak \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spred svake pojave znakova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li " u parametru. Ovo je posledica primene operatora stringizacije # na formalni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S_AR_EXP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što znači da u tekst treba ubaciti rezultat makroekspanzije stvarnog parametra (normalna situacija kada formalni argument nije pod dejstvom operatora # ili ##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S_AR_FILE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 ne koristi za parametre, već označava da u tekst pri ekspanziji treba ubaciti ime fajla (podrška za preddefinisani makro __FILE__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S_AR_LINE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 ne koristi za parametre, već označava da u tekst pri ekspanziji treba ubaciti tekući broj linije (podrška za preddefinisani makro __LINE__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Makroekspanz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23888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Makropoz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da se u ulaznom tekstu identifikuje makropoziv, kreira se instanca klas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MacroC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potisne na stek makropoziva (klas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MacroCallSt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Od tog trenutka ulaz pretprocesora ide iz tela tekućeg makroa. Kada se celo telo obradi, sa steka se skida tekući poz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a klas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MacroC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drži instancu klas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MacroCallPa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ja je odgovorna za kupljenje i predskaniranje stvarnih parametara u svom konstruktoru. Tek kada su svi parametri sakupljeni i predskanirani, makropoziv ide na st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skaniranje parametara makropoziv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gumenti se uvek skupljaju bez makroekspanzije. Pri tome, ako se makropoziv Y nalazi u telu nekog drugog makroa X, pri skupljanju argumenata    poziva Y vrši se zamena argumenata X-a svojim vrednosti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X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A( x ) #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B( y ) A( y ) A( X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ziv B(X) daje rezultat "1" "X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skaniranje parametara makropoziv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kupljeni argumenti se izolovano makroekspandu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X 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A(x,y) x,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iv A( X ) daje poruku o greš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jer se ne v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i ekspanzija X pri brojanju argumenata poziva 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ejs PP prema ostatku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kompajl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s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SPrePr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cijalizacija pretprocesora na po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četku analize ulaznog mod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premanje na kraju analize mod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adavanje konfiguracinih paramet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ervisi za davaje informacija sintaksnoj analizi (tekući fajl, tekuća lin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1698480"/>
            <a:ext cx="44960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skaniranje parametara makropoziv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telu makropoziva vrši se zamena formalnih parametara stvarnim argumentima   tako da se svuda zamenjuju njihove makroekspandovane vrednosti, OSIM   ako su pod dejstvom operatora # ili ##, kada se zamenjuju njihove pokupljene   vrednosti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define M2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define UNUTRASNJI(x , y ) x ##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v UNUTRASNJI( TEKST, M2 ) daje rezultat TEKSTM2 jer nije izvršena makroekspanzija argumenta y pod dejstvom operatora ##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o želimo da izlaz bude TEKST2, moramo dodati novu makrodefinic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define SPOLJNI( x, y ) UNUTRASNJI( x, 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 čemu se koristi pravilo 1 o zameni argumenata ugnezđujuće makrodefinicije. Poziv SPOLJNI( TEKST, M2 )  daje TEKST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alizacija predskani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ednosti dna steka datoteka (instanca klas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FileSt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 stek makropoziva (instanca klas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MacroCallSt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zapamte se, a zatim se dna postave da ukazuju na vrhove stekova. Time se efektivno postiže pražnjenje stekova uz čuvanje prethodnog sadrž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ar (instanca klas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Pa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kspanduje se tako što se postavi na stek datoteka. Vrednost parametra sada predstavlja ulaz za pretprocesor, normalno se propušta kroz tokenizator i po potrebi vrši ekspanzija makropoziva unutar parametra. Kada se iščita ceo parametar, on se skida sa steka datoteka koji u tom trenutku postaje prazan. Izlaz pretprocesora za vreme čitanja parametra pamti se kao ekspandovana vrednost paramet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upak se ponavlja za sve parametre redom u konstruktor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MacroCallPa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Kada su svi parametri obrađeni, restauriraju se stare konfiguracije stekova datoteka i makropoz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Uključivanje datoteka zaglavl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Uključivanje datoteka zaglav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zvedena iz apstraktn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FileStackEl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dgovorna je za ulaz iz datoteke (funkcija GetChar()). Pri čitanju iz datoteke obezbeđuje se eliminacija kombinacije znakova \ i \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 vodi se evidencija o tekućoj lini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lasa </a:t>
            </a:r>
            <a:r>
              <a:rPr b="0" lang="sl-SI" sz="2400" spc="-1" strike="noStrike">
                <a:solidFill>
                  <a:srgbClr val="333399"/>
                </a:solidFill>
                <a:latin typeface="Arial"/>
              </a:rPr>
              <a:t>FSParam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takođe je izvedena iz apstraktne klase </a:t>
            </a:r>
            <a:r>
              <a:rPr b="0" lang="sl-SI" sz="2400" spc="-1" strike="noStrike">
                <a:solidFill>
                  <a:srgbClr val="333399"/>
                </a:solidFill>
                <a:latin typeface="Arial"/>
              </a:rPr>
              <a:t>FSFileStackElem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i ima ulogu u predskaniranju parametara makropoz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 obzirom na mogućnost ugneždavanja </a:t>
            </a:r>
            <a:r>
              <a:rPr b="0" lang="sl-SI" sz="2400" spc="-1" strike="noStrike">
                <a:solidFill>
                  <a:srgbClr val="009999"/>
                </a:solidFill>
                <a:latin typeface="Arial"/>
              </a:rPr>
              <a:t>#includ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direktiva, instanca </a:t>
            </a:r>
            <a:r>
              <a:rPr b="0" lang="sl-SI" sz="2400" spc="-1" strike="noStrike">
                <a:solidFill>
                  <a:srgbClr val="333399"/>
                </a:solidFill>
                <a:latin typeface="Arial"/>
              </a:rPr>
              <a:t>FSFil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potiskuje se na stek datoteka (</a:t>
            </a:r>
            <a:r>
              <a:rPr b="0" lang="sl-SI" sz="2400" spc="-1" strike="noStrike">
                <a:solidFill>
                  <a:srgbClr val="333399"/>
                </a:solidFill>
                <a:latin typeface="Arial"/>
              </a:rPr>
              <a:t>FSFileStac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kada se naiđe na </a:t>
            </a:r>
            <a:r>
              <a:rPr b="0" lang="sl-SI" sz="2400" spc="-1" strike="noStrike">
                <a:solidFill>
                  <a:srgbClr val="009999"/>
                </a:solidFill>
                <a:latin typeface="Arial"/>
              </a:rPr>
              <a:t>#includ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a skida sa steka kada se dođe do kraja datote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-228600"/>
            <a:ext cx="6934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rada direktiva uslovnog prevođenja (#if, #ifdef, #ifndef, #elif, #endif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68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7631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rada direktiva uslovnog prevođenja (#if, #ifdef, #ifndef, #elif, #endif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aki put kada se naiđe n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#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#if(n)d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rektivu, parser pretprocesorskih izraza procesira direktivu i na stek if-ova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IfSt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otiskuje se instanca klas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da se naiđe n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#end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a steka if-ova se skida vršna instanca klas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Klas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S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jednostavna, sadrži samo indikatore da li je preduslov zadovoljen i da li je naišao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#el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 svakom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#inclu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ra se zapamtiti konfiguracija steka if-ova a stek isprazniti nameštanjem dna da ukazuje na vrh. Kada se završi čitanje iz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#inclu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reba restaurirati stek if-o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js PP prem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parse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cij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yl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aki poziv izaziva leksičku obradu jednog tokena i pomeranje tekuće pozicije na ul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aća klasni deo tekućeg tok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ne promenlji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y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yl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yytex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aća podstring ulaza koji odgovara tekućem tok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yylen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vraća dužinu stringa u yy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rincip korišćenja pretproces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main( int, char *argv[]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ret_c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PreProc *pPreProc = new FSPreProc( argv[1]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reProc-&gt;cppEnabled =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 ( ret_code = yylex() ) != EOF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 "code:%d, yytext=%s, yyleng=%d, file:%s, line:%u\n"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_code, yytext, yyleng, pPreProc-&gt;File(), pPreProc-&gt;Line(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i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o printf("%s ", yytex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381880" cy="641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nterna struktura pretproces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Moduli pretproces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SPPR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drži interfejsnu klasu klasu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SPrePr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unkciju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yylex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promenljiv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yy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yyl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STOK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drži baferske klas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SInput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SOut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ao i pretprocesorski tokenizator (klas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STokeniz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SINBU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drži klase koje realizuju stekove 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SFileSt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SMacroCallSt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SIfSt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pomoćne klase) i tabelu makro definicija 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SMacro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pomoćne kla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SIFEX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drži parser za izraze u okviru #if i #if(n)def direk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S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drži funkcije za prijavu upozorenja, običnih i fatalnih grešaka (tipa prepunjavanja nekog bafera i s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Tokeniz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STokenizer zadužena je za izdvajanje pp tokena iz ulaznog tek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sTokenizer::Get() čita iz inst. FSInputBuffer i prebacuje u inst. FSOut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pročit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an Covski token prosleđuje se yylex fji, ako je # ili ## onda interno aktivira pp ak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24080" y="2090880"/>
            <a:ext cx="61722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Ulazni i izlazni baf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976320"/>
            <a:ext cx="914400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Ulazni i izlazni baf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lasa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FSInputBuff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realizuje ulazni bafer, iz koga tokenizator čita tek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kst dolazi ili iz datoteke, ili iz tela makroa ukoliko se pretprocesor nalazi u režimu makroekspanz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bog mogućnosti ugneždavanja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#inclu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atoteka, informacije o otvorenim fajlovima nalaze se na steku (klasa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FSFileStac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bog mogućnosti ugneždavanja makropoziva, aktivni makropozivi nalaze se takođe na steku (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FSMacroCallStac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koliko stek makropoziva nije prazan, pretprocesor je u režimu makroekspanzije i tekst se čita iz tela makroa (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FSMacroCal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, u suprotnom se čita iz datote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Arial"/>
              </a:rPr>
              <a:t>FSOutBuffe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predstavlja apstrakciju izlaznog bafera. Servisi ove klase ažuriraju i promenljive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yytext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koja najčešće pokazuje na početak niza outBuffer, člana klase </a:t>
            </a:r>
            <a:r>
              <a:rPr b="0" lang="sl-SI" sz="2400" spc="-1" strike="noStrike">
                <a:solidFill>
                  <a:srgbClr val="333399"/>
                </a:solidFill>
                <a:latin typeface="Arial"/>
              </a:rPr>
              <a:t>FSOutBuffe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i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yylen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B</cp:lastModifiedBy>
  <dcterms:modified xsi:type="dcterms:W3CDTF">2008-04-21T12:17:2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