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AEB-2BE0-48CE-A845-2471CA76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59B-981D-4397-B1F7-BF55C628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E3B-04A4-4EDF-981A-7E07B958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AA9-2FD2-4E33-9195-961F8DA7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B58-7A01-4519-A7C1-13C8333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83A-62FE-4019-83EE-AD3A61E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2A7-7AC6-499B-9900-44882CB7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0F1-D601-42C7-AB47-F2B6E8B0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4CF-8B5B-4A09-9E21-9A93FBB5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FEA-050D-4F25-B0EF-A53FB236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B0A-A94F-48BC-AC63-98F2BCD8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452-EDCF-4DB5-939C-898AA518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ACA0-9848-431E-B78B-98AEB8CD3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sco.com/developers/devspecs/abi386-4.pdf" TargetMode="External"/><Relationship Id="rId2" Type="http://schemas.openxmlformats.org/officeDocument/2006/relationships/hyperlink" Target="http://infocenter.arm.com/help/topic/com.arm.doc.ihi0042e/IHI0042E_aapcs.pdf" TargetMode="Externa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5692-DBD8-47E9-901D-82C698E70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M asemb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g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89EC-515E-47FA-85AE-E814BA909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2349360"/>
            <a:ext cx="9313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1621-1E5C-44B3-8643-D03A67A89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8"/>
          <p:cNvGrpSpPr/>
          <p:nvPr/>
        </p:nvGrpSpPr>
        <p:grpSpPr>
          <a:xfrm>
            <a:off x="1523880" y="5334120"/>
            <a:ext cx="6681240" cy="454680"/>
            <a:chOff x="1523880" y="5334120"/>
            <a:chExt cx="6681240" cy="454680"/>
          </a:xfrm>
        </p:grpSpPr>
        <p:sp>
          <p:nvSpPr>
            <p:cNvPr id="200" name="Freeform 4"/>
            <p:cNvSpPr/>
            <p:nvPr/>
          </p:nvSpPr>
          <p:spPr>
            <a:xfrm>
              <a:off x="5036760" y="5334120"/>
              <a:ext cx="790200" cy="4546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2" h="322">
                  <a:moveTo>
                    <a:pt x="0" y="0"/>
                  </a:moveTo>
                  <a:lnTo>
                    <a:pt x="0" y="322"/>
                  </a:lnTo>
                  <a:lnTo>
                    <a:pt x="642" y="322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"/>
            <p:cNvSpPr/>
            <p:nvPr/>
          </p:nvSpPr>
          <p:spPr>
            <a:xfrm>
              <a:off x="5036760" y="5334120"/>
              <a:ext cx="790200" cy="4546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4" h="322">
                  <a:moveTo>
                    <a:pt x="0" y="0"/>
                  </a:moveTo>
                  <a:lnTo>
                    <a:pt x="0" y="322"/>
                  </a:lnTo>
                  <a:lnTo>
                    <a:pt x="644" y="322"/>
                  </a:lnTo>
                  <a:lnTo>
                    <a:pt x="644" y="0"/>
                  </a:lnTo>
                </a:path>
              </a:pathLst>
            </a:custGeom>
            <a:noFill/>
            <a:ln w="7920">
              <a:solidFill>
                <a:srgbClr val="6698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5036760" y="5334120"/>
              <a:ext cx="790200" cy="0"/>
            </a:xfrm>
            <a:prstGeom prst="line">
              <a:avLst/>
            </a:prstGeom>
            <a:ln w="7920">
              <a:solidFill>
                <a:srgbClr val="66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5827320" y="5334120"/>
              <a:ext cx="793800" cy="45468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5" h="322">
                  <a:moveTo>
                    <a:pt x="0" y="0"/>
                  </a:moveTo>
                  <a:lnTo>
                    <a:pt x="0" y="322"/>
                  </a:lnTo>
                  <a:lnTo>
                    <a:pt x="645" y="3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5827320" y="5334120"/>
              <a:ext cx="793800" cy="45468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3" h="322">
                  <a:moveTo>
                    <a:pt x="0" y="0"/>
                  </a:moveTo>
                  <a:lnTo>
                    <a:pt x="0" y="322"/>
                  </a:lnTo>
                  <a:lnTo>
                    <a:pt x="643" y="322"/>
                  </a:lnTo>
                  <a:lnTo>
                    <a:pt x="643" y="0"/>
                  </a:lnTo>
                </a:path>
              </a:pathLst>
            </a:custGeom>
            <a:noFill/>
            <a:ln w="7920">
              <a:solidFill>
                <a:srgbClr val="6698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>
              <a:off x="5827320" y="5334120"/>
              <a:ext cx="793800" cy="0"/>
            </a:xfrm>
            <a:prstGeom prst="line">
              <a:avLst/>
            </a:prstGeom>
            <a:ln w="7920">
              <a:solidFill>
                <a:srgbClr val="66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"/>
            <p:cNvSpPr/>
            <p:nvPr/>
          </p:nvSpPr>
          <p:spPr>
            <a:xfrm>
              <a:off x="6621120" y="5334120"/>
              <a:ext cx="793080" cy="45468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5" h="322">
                  <a:moveTo>
                    <a:pt x="0" y="0"/>
                  </a:moveTo>
                  <a:lnTo>
                    <a:pt x="0" y="322"/>
                  </a:lnTo>
                  <a:lnTo>
                    <a:pt x="645" y="3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"/>
            <p:cNvSpPr/>
            <p:nvPr/>
          </p:nvSpPr>
          <p:spPr>
            <a:xfrm>
              <a:off x="6621120" y="5334120"/>
              <a:ext cx="793080" cy="45468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5" h="322">
                  <a:moveTo>
                    <a:pt x="0" y="0"/>
                  </a:moveTo>
                  <a:lnTo>
                    <a:pt x="0" y="322"/>
                  </a:lnTo>
                  <a:lnTo>
                    <a:pt x="645" y="322"/>
                  </a:lnTo>
                  <a:lnTo>
                    <a:pt x="645" y="0"/>
                  </a:lnTo>
                </a:path>
              </a:pathLst>
            </a:custGeom>
            <a:noFill/>
            <a:ln w="7920">
              <a:solidFill>
                <a:srgbClr val="6698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6621120" y="5334120"/>
              <a:ext cx="793080" cy="0"/>
            </a:xfrm>
            <a:prstGeom prst="line">
              <a:avLst/>
            </a:prstGeom>
            <a:ln w="7920">
              <a:solidFill>
                <a:srgbClr val="66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7414200" y="5334120"/>
              <a:ext cx="790920" cy="45468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4" h="322">
                  <a:moveTo>
                    <a:pt x="0" y="0"/>
                  </a:moveTo>
                  <a:lnTo>
                    <a:pt x="0" y="322"/>
                  </a:lnTo>
                  <a:lnTo>
                    <a:pt x="644" y="32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414200" y="5334120"/>
              <a:ext cx="790920" cy="45468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4" h="322">
                  <a:moveTo>
                    <a:pt x="0" y="0"/>
                  </a:moveTo>
                  <a:lnTo>
                    <a:pt x="0" y="322"/>
                  </a:lnTo>
                  <a:lnTo>
                    <a:pt x="644" y="322"/>
                  </a:lnTo>
                  <a:lnTo>
                    <a:pt x="644" y="0"/>
                  </a:lnTo>
                </a:path>
              </a:pathLst>
            </a:custGeom>
            <a:noFill/>
            <a:ln w="7920">
              <a:solidFill>
                <a:srgbClr val="6698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7414200" y="5334120"/>
              <a:ext cx="790920" cy="0"/>
            </a:xfrm>
            <a:prstGeom prst="line">
              <a:avLst/>
            </a:prstGeom>
            <a:ln w="7920">
              <a:solidFill>
                <a:srgbClr val="66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23880" y="5334120"/>
              <a:ext cx="790200" cy="4546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4" h="322">
                  <a:moveTo>
                    <a:pt x="0" y="0"/>
                  </a:moveTo>
                  <a:lnTo>
                    <a:pt x="0" y="322"/>
                  </a:lnTo>
                  <a:lnTo>
                    <a:pt x="644" y="32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1523880" y="5334120"/>
              <a:ext cx="790200" cy="4546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3" h="322">
                  <a:moveTo>
                    <a:pt x="0" y="0"/>
                  </a:moveTo>
                  <a:lnTo>
                    <a:pt x="0" y="322"/>
                  </a:lnTo>
                  <a:lnTo>
                    <a:pt x="643" y="322"/>
                  </a:lnTo>
                  <a:lnTo>
                    <a:pt x="643" y="0"/>
                  </a:lnTo>
                </a:path>
              </a:pathLst>
            </a:custGeom>
            <a:noFill/>
            <a:ln w="7920">
              <a:solidFill>
                <a:srgbClr val="6698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1523880" y="5334120"/>
              <a:ext cx="790200" cy="0"/>
            </a:xfrm>
            <a:prstGeom prst="line">
              <a:avLst/>
            </a:prstGeom>
            <a:ln w="7920">
              <a:solidFill>
                <a:srgbClr val="66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2314080" y="5334120"/>
              <a:ext cx="793800" cy="45468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4" h="322">
                  <a:moveTo>
                    <a:pt x="0" y="0"/>
                  </a:moveTo>
                  <a:lnTo>
                    <a:pt x="0" y="322"/>
                  </a:lnTo>
                  <a:lnTo>
                    <a:pt x="644" y="32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2314080" y="5334120"/>
              <a:ext cx="793800" cy="45468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4" h="322">
                  <a:moveTo>
                    <a:pt x="0" y="0"/>
                  </a:moveTo>
                  <a:lnTo>
                    <a:pt x="0" y="322"/>
                  </a:lnTo>
                  <a:lnTo>
                    <a:pt x="644" y="322"/>
                  </a:lnTo>
                  <a:lnTo>
                    <a:pt x="644" y="0"/>
                  </a:lnTo>
                </a:path>
              </a:pathLst>
            </a:custGeom>
            <a:noFill/>
            <a:ln w="7920">
              <a:solidFill>
                <a:srgbClr val="6698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1"/>
            <p:cNvSpPr/>
            <p:nvPr/>
          </p:nvSpPr>
          <p:spPr>
            <a:xfrm>
              <a:off x="2314080" y="5334120"/>
              <a:ext cx="793800" cy="0"/>
            </a:xfrm>
            <a:prstGeom prst="line">
              <a:avLst/>
            </a:prstGeom>
            <a:ln w="7920">
              <a:solidFill>
                <a:srgbClr val="66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3107880" y="5334120"/>
              <a:ext cx="793800" cy="45468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4" h="322">
                  <a:moveTo>
                    <a:pt x="0" y="0"/>
                  </a:moveTo>
                  <a:lnTo>
                    <a:pt x="0" y="322"/>
                  </a:lnTo>
                  <a:lnTo>
                    <a:pt x="644" y="32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"/>
            <p:cNvSpPr/>
            <p:nvPr/>
          </p:nvSpPr>
          <p:spPr>
            <a:xfrm>
              <a:off x="3107880" y="5334120"/>
              <a:ext cx="793800" cy="45468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5" h="322">
                  <a:moveTo>
                    <a:pt x="0" y="0"/>
                  </a:moveTo>
                  <a:lnTo>
                    <a:pt x="0" y="322"/>
                  </a:lnTo>
                  <a:lnTo>
                    <a:pt x="645" y="322"/>
                  </a:lnTo>
                  <a:lnTo>
                    <a:pt x="645" y="0"/>
                  </a:lnTo>
                </a:path>
              </a:pathLst>
            </a:custGeom>
            <a:noFill/>
            <a:ln w="7920">
              <a:solidFill>
                <a:srgbClr val="6698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4"/>
            <p:cNvSpPr/>
            <p:nvPr/>
          </p:nvSpPr>
          <p:spPr>
            <a:xfrm>
              <a:off x="3107880" y="5334120"/>
              <a:ext cx="793800" cy="0"/>
            </a:xfrm>
            <a:prstGeom prst="line">
              <a:avLst/>
            </a:prstGeom>
            <a:ln w="7920">
              <a:solidFill>
                <a:srgbClr val="66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5"/>
            <p:cNvSpPr/>
            <p:nvPr/>
          </p:nvSpPr>
          <p:spPr>
            <a:xfrm>
              <a:off x="3901680" y="5334120"/>
              <a:ext cx="790200" cy="45468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4" h="322">
                  <a:moveTo>
                    <a:pt x="0" y="0"/>
                  </a:moveTo>
                  <a:lnTo>
                    <a:pt x="0" y="322"/>
                  </a:lnTo>
                  <a:lnTo>
                    <a:pt x="644" y="322"/>
                  </a:lnTo>
                  <a:lnTo>
                    <a:pt x="644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6"/>
            <p:cNvSpPr/>
            <p:nvPr/>
          </p:nvSpPr>
          <p:spPr>
            <a:xfrm>
              <a:off x="3901680" y="5334120"/>
              <a:ext cx="793080" cy="45468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645" h="322">
                  <a:moveTo>
                    <a:pt x="0" y="0"/>
                  </a:moveTo>
                  <a:lnTo>
                    <a:pt x="0" y="322"/>
                  </a:lnTo>
                  <a:lnTo>
                    <a:pt x="645" y="322"/>
                  </a:lnTo>
                  <a:lnTo>
                    <a:pt x="645" y="0"/>
                  </a:lnTo>
                </a:path>
              </a:pathLst>
            </a:custGeom>
            <a:noFill/>
            <a:ln w="7920">
              <a:solidFill>
                <a:srgbClr val="6698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7"/>
            <p:cNvSpPr/>
            <p:nvPr/>
          </p:nvSpPr>
          <p:spPr>
            <a:xfrm>
              <a:off x="3901680" y="5334120"/>
              <a:ext cx="793080" cy="0"/>
            </a:xfrm>
            <a:prstGeom prst="line">
              <a:avLst/>
            </a:prstGeom>
            <a:ln w="7920">
              <a:solidFill>
                <a:srgbClr val="66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Adres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iranje</a:t>
            </a: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 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 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poravn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6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2-bi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morijska reč je širo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2 bi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 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j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resiranje je na nivou bajta a ne r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9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 proceso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 može konfigurisati da koristi bi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ttle-endia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i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g-endia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oravnavanje re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2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-endian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jmanje značajni bitovi reči su na najnižoj memorijskoj adresi (ovo je podrazumevano podešavan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2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-endian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jznačajniji bitovi reči su na najnižoj memorijskoj adr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2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 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2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 3  byte 2 byte 1 byte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 0 byte 1 byte 2 by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2000"/>
              </a:lnSpc>
              <a:spcBef>
                <a:spcPts val="1137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-end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-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4936-0321-4C1D-AE5A-B45AE38C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Transfer podat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edu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Load-Store a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itekturu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aci moraju biti učitani u registre, pre nego što mogu biti obrađeni od strane ALU</a:t>
            </a:r>
            <a:br>
              <a:rPr sz="2400"/>
            </a:b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transfer podataka između regist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li punjenje registra konstanto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koriste se MO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V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ru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1, r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r1 =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6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r3, #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r3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just">
              <a:lnSpc>
                <a:spcPct val="14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96920" y="3502080"/>
            <a:ext cx="87008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42B6-5447-486B-9213-EAD79258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Kružni </a:t>
            </a: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pomera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76320" y="1371240"/>
            <a:ext cx="558648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330065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0065"/>
                </a:solidFill>
                <a:latin typeface="Arial"/>
              </a:rPr>
              <a:t>omogućava pomeranje pre ulaska </a:t>
            </a:r>
            <a:br>
              <a:rPr sz="2400"/>
            </a:br>
            <a:r>
              <a:rPr b="0" lang="sr-Latn-CS" sz="2400" spc="-1" strike="noStrike">
                <a:solidFill>
                  <a:srgbClr val="330065"/>
                </a:solidFill>
                <a:latin typeface="Arial"/>
              </a:rPr>
              <a:t>vrednosti drugog operanda u 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V r3,r4,LSL#3 @ r3=8*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81080" y="4237200"/>
            <a:ext cx="8686800" cy="2176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5778360" y="1181160"/>
            <a:ext cx="29862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Načini adres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9C7B-7FC9-475F-8B1D-D52076355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57200" y="954000"/>
            <a:ext cx="8510760" cy="4735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748800" y="5891040"/>
            <a:ext cx="834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ži za drugi operand (N) instrukcija transfera među registrima, kao i 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kcije obrade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CFD7-3092-4405-82A1-F8B824D78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5"/>
                </a:solidFill>
                <a:latin typeface="Arial Bold"/>
              </a:rPr>
              <a:t>Primer na</a:t>
            </a: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čin</a:t>
            </a:r>
            <a:r>
              <a:rPr b="1" lang="en-US" sz="4400" spc="-1" strike="noStrike">
                <a:solidFill>
                  <a:srgbClr val="330065"/>
                </a:solidFill>
                <a:latin typeface="Arial"/>
              </a:rPr>
              <a:t>a</a:t>
            </a: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 adresiranja </a:t>
            </a:r>
            <a:br>
              <a:rPr sz="4400"/>
            </a:b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kod instrukcija ob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05280" y="1600200"/>
            <a:ext cx="1043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8000"/>
              </a:lnSpc>
              <a:spcBef>
                <a:spcPts val="1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gistarsko direkt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r3, r2, 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 r3 = r2 -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posredan ope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r3, r2, #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 r3 = r2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e vrednosti neposrednih konstanti date su formul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dnost = N x 2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0 ≤ N ≤ 255, 0 ≤ k ≤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8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 pomeraj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arrel-Shif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r3, r2, r1, LSL #1 @ r3 = r2 - (r1 *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8BA-4F1A-48E7-AAB7-094B13E77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5"/>
                </a:solidFill>
                <a:latin typeface="Arial Bold"/>
              </a:rPr>
              <a:t>Instru</a:t>
            </a:r>
            <a:r>
              <a:rPr b="1" lang="sr-Latn-CS" sz="4000" spc="-1" strike="noStrike">
                <a:solidFill>
                  <a:srgbClr val="330065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330065"/>
                </a:solidFill>
                <a:latin typeface="Arial Bold"/>
              </a:rPr>
              <a:t>c</a:t>
            </a:r>
            <a:r>
              <a:rPr b="1" lang="sr-Latn-CS" sz="4000" spc="-1" strike="noStrike">
                <a:solidFill>
                  <a:srgbClr val="330065"/>
                </a:solidFill>
                <a:latin typeface="Arial"/>
              </a:rPr>
              <a:t>ije za obradu podat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762120" y="1928880"/>
            <a:ext cx="7315200" cy="34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V, M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2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DD, ADC, SUB, SBC, RSB, R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D, ORR, EOR, B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6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ređen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MP, CMN, TST, TEQ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6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že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UL, MLA, SMLAL, SMULL, UMULL, SMLAL, UML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d2d8a"/>
                </a:solidFill>
                <a:latin typeface="Arial"/>
              </a:rPr>
              <a:t>Aritmetičke instru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4FEF-D597-42ED-BE66-7B833E630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38040" y="1860480"/>
            <a:ext cx="8467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čke instrukcije, poređ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2D2C-6C66-4601-A058-4E27EA39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990720" y="1417680"/>
            <a:ext cx="7343640" cy="2295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600120" y="3949560"/>
            <a:ext cx="8086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kcije množ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3A1D-F24A-40DD-8ED0-CDB2174D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485640" y="1260360"/>
            <a:ext cx="8172720" cy="43434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875880" y="5950080"/>
            <a:ext cx="77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gačka” množenja koriste dva registra kao jedinstvenu 64bitnu vred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F8F-8076-4416-A528-94032107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8080" y="1357200"/>
            <a:ext cx="50007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1500"/>
              </a:spcBef>
              <a:buClr>
                <a:srgbClr val="000000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 definiš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500"/>
              </a:spcBef>
              <a:buClr>
                <a:srgbClr val="000000"/>
              </a:buClr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hitek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ogramski model procesora), koje dele isti osnovni dizajn i zajednički set instruk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500"/>
              </a:spcBef>
              <a:buClr>
                <a:srgbClr val="000000"/>
              </a:buClr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kroarhitek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pecifične implementacije mikroarhitektura (pojam na nivou organizacije procesora, tipa dubina pajplajna, struktura magistr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1500"/>
              </a:spcBef>
              <a:buClr>
                <a:srgbClr val="000000"/>
              </a:buClr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edinstvena realizacija mikroarhitekture. ARM ne pravi fizičke procesore, već njihov dizajn licencira drugim kompani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820880" y="138240"/>
            <a:ext cx="56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A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dvanced RISC Machine</a:t>
            </a:r>
            <a:r>
              <a:rPr b="1" lang="en-US" sz="3600" spc="-1" strike="noStrike">
                <a:solidFill>
                  <a:srgbClr val="330065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5"/>
                </a:solidFill>
                <a:latin typeface="Arial"/>
              </a:rPr>
              <a:t>proizvo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029200" y="17524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ezg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posebna logička jedinica unutar kao deo 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unara na čip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zajedno sa memorijom, periferij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-on-chi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1"/>
          <p:cNvGrpSpPr/>
          <p:nvPr/>
        </p:nvGrpSpPr>
        <p:grpSpPr>
          <a:xfrm>
            <a:off x="5562720" y="4319640"/>
            <a:ext cx="2232720" cy="2154960"/>
            <a:chOff x="5562720" y="4319640"/>
            <a:chExt cx="2232720" cy="2154960"/>
          </a:xfrm>
        </p:grpSpPr>
        <p:sp>
          <p:nvSpPr>
            <p:cNvPr id="49" name="Freeform 6"/>
            <p:cNvSpPr/>
            <p:nvPr/>
          </p:nvSpPr>
          <p:spPr>
            <a:xfrm>
              <a:off x="5562720" y="4319640"/>
              <a:ext cx="2232720" cy="2154960"/>
            </a:xfrm>
            <a:custGeom>
              <a:avLst/>
              <a:gdLst>
                <a:gd name="textAreaLeft" fmla="*/ 0 w 2232720"/>
                <a:gd name="textAreaRight" fmla="*/ 2233080 w 2232720"/>
                <a:gd name="textAreaTop" fmla="*/ 0 h 2154960"/>
                <a:gd name="textAreaBottom" fmla="*/ 2155320 h 2154960"/>
              </a:gdLst>
              <a:ahLst/>
              <a:rect l="textAreaLeft" t="textAreaTop" r="textAreaRight" b="textAreaBottom"/>
              <a:pathLst>
                <a:path w="1679" h="1679">
                  <a:moveTo>
                    <a:pt x="0" y="0"/>
                  </a:moveTo>
                  <a:lnTo>
                    <a:pt x="0" y="1679"/>
                  </a:lnTo>
                  <a:lnTo>
                    <a:pt x="1679" y="1679"/>
                  </a:lnTo>
                  <a:lnTo>
                    <a:pt x="1679" y="0"/>
                  </a:lnTo>
                  <a:close/>
                </a:path>
              </a:pathLst>
            </a:custGeom>
            <a:solidFill>
              <a:srgbClr val="ccc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562720" y="4319640"/>
              <a:ext cx="2232720" cy="2154960"/>
            </a:xfrm>
            <a:custGeom>
              <a:avLst/>
              <a:gdLst>
                <a:gd name="textAreaLeft" fmla="*/ 0 w 2232720"/>
                <a:gd name="textAreaRight" fmla="*/ 2233080 w 2232720"/>
                <a:gd name="textAreaTop" fmla="*/ 0 h 2154960"/>
                <a:gd name="textAreaBottom" fmla="*/ 2155320 h 2154960"/>
              </a:gdLst>
              <a:ahLst/>
              <a:rect l="textAreaLeft" t="textAreaTop" r="textAreaRight" b="textAreaBottom"/>
              <a:pathLst>
                <a:path w="1679" h="1678">
                  <a:moveTo>
                    <a:pt x="0" y="0"/>
                  </a:moveTo>
                  <a:lnTo>
                    <a:pt x="0" y="1678"/>
                  </a:lnTo>
                  <a:lnTo>
                    <a:pt x="1679" y="1678"/>
                  </a:lnTo>
                  <a:lnTo>
                    <a:pt x="1679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5562720" y="4319640"/>
              <a:ext cx="22327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5791680" y="4633560"/>
              <a:ext cx="731520" cy="66024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49" h="514">
                  <a:moveTo>
                    <a:pt x="0" y="0"/>
                  </a:moveTo>
                  <a:lnTo>
                    <a:pt x="0" y="514"/>
                  </a:lnTo>
                  <a:lnTo>
                    <a:pt x="549" y="514"/>
                  </a:lnTo>
                  <a:lnTo>
                    <a:pt x="549" y="0"/>
                  </a:lnTo>
                  <a:close/>
                </a:path>
              </a:pathLst>
            </a:custGeom>
            <a:solidFill>
              <a:srgbClr val="7e9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5791680" y="4636440"/>
              <a:ext cx="734760" cy="65736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51" h="513">
                  <a:moveTo>
                    <a:pt x="0" y="0"/>
                  </a:moveTo>
                  <a:lnTo>
                    <a:pt x="0" y="513"/>
                  </a:lnTo>
                  <a:lnTo>
                    <a:pt x="551" y="513"/>
                  </a:lnTo>
                  <a:lnTo>
                    <a:pt x="551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5791680" y="4636440"/>
              <a:ext cx="73476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5791680" y="5592600"/>
              <a:ext cx="731520" cy="65736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49" h="513">
                  <a:moveTo>
                    <a:pt x="0" y="0"/>
                  </a:moveTo>
                  <a:lnTo>
                    <a:pt x="0" y="513"/>
                  </a:lnTo>
                  <a:lnTo>
                    <a:pt x="549" y="513"/>
                  </a:lnTo>
                  <a:lnTo>
                    <a:pt x="549" y="0"/>
                  </a:lnTo>
                  <a:close/>
                </a:path>
              </a:pathLst>
            </a:custGeom>
            <a:solidFill>
              <a:srgbClr val="66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5791680" y="5592600"/>
              <a:ext cx="734760" cy="65736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51" h="513">
                  <a:moveTo>
                    <a:pt x="0" y="0"/>
                  </a:moveTo>
                  <a:lnTo>
                    <a:pt x="0" y="513"/>
                  </a:lnTo>
                  <a:lnTo>
                    <a:pt x="551" y="513"/>
                  </a:lnTo>
                  <a:lnTo>
                    <a:pt x="551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5791680" y="5592600"/>
              <a:ext cx="73476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6828840" y="4607640"/>
              <a:ext cx="744480" cy="6544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560" h="512">
                  <a:moveTo>
                    <a:pt x="0" y="0"/>
                  </a:moveTo>
                  <a:lnTo>
                    <a:pt x="0" y="512"/>
                  </a:lnTo>
                  <a:lnTo>
                    <a:pt x="560" y="512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6828840" y="4607640"/>
              <a:ext cx="744480" cy="6544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560" h="512">
                  <a:moveTo>
                    <a:pt x="0" y="0"/>
                  </a:moveTo>
                  <a:lnTo>
                    <a:pt x="0" y="512"/>
                  </a:lnTo>
                  <a:lnTo>
                    <a:pt x="560" y="512"/>
                  </a:lnTo>
                  <a:lnTo>
                    <a:pt x="560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>
              <a:off x="6828840" y="4607640"/>
              <a:ext cx="74448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6855840" y="5746680"/>
              <a:ext cx="690840" cy="38448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520" h="299">
                  <a:moveTo>
                    <a:pt x="0" y="0"/>
                  </a:moveTo>
                  <a:lnTo>
                    <a:pt x="0" y="299"/>
                  </a:lnTo>
                  <a:lnTo>
                    <a:pt x="520" y="299"/>
                  </a:lnTo>
                  <a:lnTo>
                    <a:pt x="52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6855840" y="5746680"/>
              <a:ext cx="690840" cy="38448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521" h="299">
                  <a:moveTo>
                    <a:pt x="0" y="0"/>
                  </a:moveTo>
                  <a:lnTo>
                    <a:pt x="0" y="299"/>
                  </a:lnTo>
                  <a:lnTo>
                    <a:pt x="521" y="299"/>
                  </a:lnTo>
                  <a:lnTo>
                    <a:pt x="521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0"/>
            <p:cNvSpPr/>
            <p:nvPr/>
          </p:nvSpPr>
          <p:spPr>
            <a:xfrm>
              <a:off x="6855840" y="5746680"/>
              <a:ext cx="69084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2"/>
          <p:cNvSpPr/>
          <p:nvPr/>
        </p:nvSpPr>
        <p:spPr>
          <a:xfrm>
            <a:off x="5793120" y="470052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6860160" y="462456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5793120" y="5705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6878880" y="5781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E9EA-5B5A-4BD9-AB8F-95FB8961D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Na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čini adresiranja </a:t>
            </a:r>
            <a:br>
              <a:rPr sz="4400"/>
            </a:b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kod instrukcija ob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-305280" y="1600200"/>
            <a:ext cx="1043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8000"/>
              </a:lnSpc>
              <a:spcBef>
                <a:spcPts val="1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gistarsko direkt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r3, r2, 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 r3 = r2 -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eposredan ope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r3, r2, #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 r3 = r2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guće vrednosti neposrednih konstanti date su formul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rednost = N x 2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0 ≤ N ≤ 255, 0 ≤ k ≤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8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 pomeraj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arrel-Shif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1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 r3, r2, r1, LSL #1 @ r3 = r2 - (r1 *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AC3E-BDFA-4F96-9809-AC4513D6B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4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Instru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c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ije za obradu podataka</a:t>
            </a:r>
            <a:r>
              <a:rPr b="1" lang="en-US" sz="3600" spc="-1" strike="noStrike">
                <a:solidFill>
                  <a:srgbClr val="330065"/>
                </a:solidFill>
                <a:latin typeface="Arial"/>
              </a:rPr>
              <a:t> i CP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se mnemoniku instrukcije doda sufi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nda instrukcija ažuri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eg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, Z, C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registru CP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48000"/>
              </a:lnSpc>
              <a:spcBef>
                <a:spcPts val="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1, r2, r3 @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 men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PS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48000"/>
              </a:lnSpc>
              <a:spcBef>
                <a:spcPts val="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r1, r2, r3 @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žuri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A1B6-0151-48B6-9ECC-774801C16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Instru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c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ije za obradu podataka</a:t>
            </a: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 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 CP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S r1,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6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Times New Roman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ZCV = 00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S r2, #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Times New Roman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ZCV = 10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r3, r2, r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Times New Roman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ZCV = 1000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S r3, r2, r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Times New Roman"/>
              </a:rPr>
              <a:t>⇒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ZCV = 0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062240" y="1600200"/>
            <a:ext cx="4469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use the S suffix on a data processing instruction, then it updates the flags in the cps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and logical operations update the carry flag C, negative flag N, and zero flag 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ry flag is set from the result of the barrel shift as the last bit shifted out. The N flag is set to bit 31 of the result. The Z flag is set if the result is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1DC2-6F43-495A-89E1-BA6A6578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Transfer jednog podatka</a:t>
            </a:r>
            <a:br>
              <a:rPr sz="4400"/>
            </a:b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između r</a:t>
            </a:r>
            <a:r>
              <a:rPr b="1" lang="en-US" sz="4400" spc="-1" strike="noStrike">
                <a:solidFill>
                  <a:srgbClr val="330065"/>
                </a:solidFill>
                <a:latin typeface="Arial Bold"/>
              </a:rPr>
              <a:t>egistr</a:t>
            </a: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a i m</a:t>
            </a:r>
            <a:r>
              <a:rPr b="1" lang="en-US" sz="4400" spc="-1" strike="noStrike">
                <a:solidFill>
                  <a:srgbClr val="330065"/>
                </a:solidFill>
                <a:latin typeface="Arial Bold"/>
              </a:rPr>
              <a:t>emor</a:t>
            </a: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 marL="586800" indent="-225720" algn="just">
              <a:lnSpc>
                <a:spcPct val="122000"/>
              </a:lnSpc>
              <a:spcBef>
                <a:spcPts val="37"/>
              </a:spcBef>
              <a:buClr>
                <a:srgbClr val="000000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ransfer između registara i memorije koriste 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or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tr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just">
              <a:lnSpc>
                <a:spcPct val="122000"/>
              </a:lnSpc>
              <a:spcBef>
                <a:spcPts val="37"/>
              </a:spcBef>
              <a:buClr>
                <a:srgbClr val="000000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aci moraju biti učitani u registre, pre nego što mogu biti obrađeni od strane A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 algn="just">
              <a:lnSpc>
                <a:spcPct val="122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122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3090960"/>
            <a:ext cx="74833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6774-8B94-42A6-AD5E-BEADD2B3F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Transfer jednog podatka</a:t>
            </a:r>
            <a:br>
              <a:rPr sz="4400"/>
            </a:b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između r</a:t>
            </a:r>
            <a:r>
              <a:rPr b="1" lang="en-US" sz="4400" spc="-1" strike="noStrike">
                <a:solidFill>
                  <a:srgbClr val="330065"/>
                </a:solidFill>
                <a:latin typeface="Arial Bold"/>
              </a:rPr>
              <a:t>egistr</a:t>
            </a: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a i m</a:t>
            </a:r>
            <a:r>
              <a:rPr b="1" lang="en-US" sz="4400" spc="-1" strike="noStrike">
                <a:solidFill>
                  <a:srgbClr val="330065"/>
                </a:solidFill>
                <a:latin typeface="Arial Bold"/>
              </a:rPr>
              <a:t>emor</a:t>
            </a:r>
            <a:r>
              <a:rPr b="1" lang="sr-Latn-CS" sz="4400" spc="-1" strike="noStrike">
                <a:solidFill>
                  <a:srgbClr val="330065"/>
                </a:solidFill>
                <a:latin typeface="Arial"/>
              </a:rPr>
              <a:t>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lnSpc>
                <a:spcPct val="122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Italic"/>
              </a:rPr>
              <a:t>Load instr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DR (load word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)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i postoje varijacije koje rade sa bajtovi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DRB)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ureč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DRH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označenim bajtov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119000"/>
              </a:lnSpc>
              <a:spcBef>
                <a:spcPts val="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DR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3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3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3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3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3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23000"/>
              </a:lnSpc>
              <a:spcBef>
                <a:spcPts val="312"/>
              </a:spcBef>
              <a:buClr>
                <a:srgbClr val="000000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stupi memoriji zahtevaju poravnavanje tako da je adresa deljiva u skladu sa veličinom podatka koji se prenosi (npr. za reč od 32 bita, adresa mora biti deljiva sa 4, za polureč adresa mora biti par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343160" y="2805120"/>
            <a:ext cx="64576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295E-83C2-431B-BAD3-EF95D2DA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Primer:</a:t>
            </a: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 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9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Stanje p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9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0 = 0x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9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1 = 0x0007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9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m32[0x00070000] = 0x00000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8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8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DR r0, [r1]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sr-Latn-CS" sz="2800" spc="-1" strike="noStrike">
                <a:solidFill>
                  <a:srgbClr val="000000"/>
                </a:solidFill>
                <a:latin typeface="Courier New"/>
              </a:rPr>
              <a:t> reg. indirekt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9000"/>
              </a:lnSpc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tanje pos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= 0x00000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9000"/>
              </a:lnSpc>
              <a:spcBef>
                <a:spcPts val="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 = 0x0007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1F59-3408-474A-90D2-E9F9EF025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Načini adresiranja</a:t>
            </a: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Preind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eksir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6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tanje 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= 0x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 = 0x00007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m32[0x00007000] = 0x00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m32[0x00007004] = 0x0000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4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in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sir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DR r0, [r1, #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urier New"/>
              </a:rPr>
              <a:t>(pomeraj može ići do +-40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tanje pos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13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= 0x0000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 = 0x00007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F4A5-C805-420D-B93D-E4FF848B1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0065"/>
                </a:solidFill>
                <a:latin typeface="Arial"/>
              </a:rPr>
              <a:t>Načini adresiranja</a:t>
            </a:r>
            <a:r>
              <a:rPr b="0" lang="en-US" sz="4000" spc="-1" strike="noStrike">
                <a:solidFill>
                  <a:srgbClr val="330065"/>
                </a:solidFill>
                <a:latin typeface="Arial Bold"/>
              </a:rPr>
              <a:t>:</a:t>
            </a:r>
            <a:br>
              <a:rPr sz="4000"/>
            </a:br>
            <a:r>
              <a:rPr b="0" lang="sr-Latn-CS" sz="4000" spc="-1" strike="noStrike">
                <a:solidFill>
                  <a:srgbClr val="330065"/>
                </a:solidFill>
                <a:latin typeface="Arial"/>
              </a:rPr>
              <a:t>Preindeksiranje sa autoindeksiranj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6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tanje 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= 0x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 = 0x00007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m32[0x00007000] = 0x00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m32[0x00007004] = 0x0000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4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indeksiranje sa 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toindek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DR r0, [r1, #4]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tanje pos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13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= 0x0000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 = 0x00007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90FF-9FA2-4649-83B1-BFEDA9156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Načini adresiranja:</a:t>
            </a:r>
            <a:br>
              <a:rPr sz="4400"/>
            </a:b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Postinde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ksir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6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tanje 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= 0x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 = 0x00007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m32[0x00007000] = 0x00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6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m32[0x00007004] = 0x0000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4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i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ksir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DR r0, [r1],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tanje pos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13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0 = 0x00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6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 = 0x00007004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 (ažurira se uv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Arial"/>
              </a:rPr>
              <a:t>Svi načini adresiranja LDR i S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20DA-96C8-4E38-B577-DC2FF872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15920" y="1746360"/>
            <a:ext cx="9028080" cy="35431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5"/>
          <p:cNvSpPr/>
          <p:nvPr/>
        </p:nvSpPr>
        <p:spPr>
          <a:xfrm>
            <a:off x="165600" y="5415120"/>
            <a:ext cx="85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o je za širinu podatka 32b ili neoznačenih 8 bi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 varijanta sa polurečima ima nešto restriktivnije adres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0E6C-0F47-47E3-95E4-2A5DCE482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505520" y="539640"/>
            <a:ext cx="65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Generacije ARM arhitek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41.png"/>
          <p:cNvPicPr/>
          <p:nvPr/>
        </p:nvPicPr>
        <p:blipFill>
          <a:blip r:embed="rId1"/>
          <a:stretch/>
        </p:blipFill>
        <p:spPr>
          <a:xfrm>
            <a:off x="71280" y="1273320"/>
            <a:ext cx="7959960" cy="4311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7841880" y="1447920"/>
            <a:ext cx="12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bit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hitek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8205840" y="1401840"/>
            <a:ext cx="412560" cy="457200"/>
          </a:xfrm>
          <a:custGeom>
            <a:avLst/>
            <a:gdLst>
              <a:gd name="textAreaLeft" fmla="*/ 19800 w 412560"/>
              <a:gd name="textAreaRight" fmla="*/ 392760 w 412560"/>
              <a:gd name="textAreaTop" fmla="*/ 19800 h 457200"/>
              <a:gd name="textAreaBottom" fmla="*/ 437400 h 457200"/>
            </a:gdLst>
            <a:ahLst/>
            <a:rect l="textAreaLeft" t="textAreaTop" r="textAreaRight" b="textAreaBottom"/>
            <a:pathLst>
              <a:path w="21600" h="23935">
                <a:moveTo>
                  <a:pt x="3600" y="0"/>
                </a:moveTo>
                <a:arcTo wR="3600" hR="3600" stAng="16200000" swAng="-5400000"/>
                <a:lnTo>
                  <a:pt x="0" y="20335"/>
                </a:lnTo>
                <a:arcTo wR="3600" hR="3600" stAng="10800000" swAng="-5400000"/>
                <a:lnTo>
                  <a:pt x="18000" y="239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Arial"/>
              </a:rPr>
              <a:t>Primer: LDR sa različitim načinima adres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2932-7322-4719-94FA-E6D403B10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0" y="1698480"/>
            <a:ext cx="881208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D3E6-0973-40F0-BE6F-402EB5FCB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1000" y="274320"/>
            <a:ext cx="875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Višestruki transfer </a:t>
            </a:r>
            <a:r>
              <a:rPr b="1" lang="en-US" sz="3600" spc="-1" strike="noStrike">
                <a:solidFill>
                  <a:srgbClr val="330065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egistr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-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emo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r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82384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o koji podskup registara može u/iz memorije. Rn određuje izvorišnu, tj. ddredišnu adresu transfera (ažurira se ako se stavi 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6" descr=""/>
          <p:cNvPicPr/>
          <p:nvPr/>
        </p:nvPicPr>
        <p:blipFill>
          <a:blip r:embed="rId1"/>
          <a:stretch/>
        </p:blipFill>
        <p:spPr>
          <a:xfrm>
            <a:off x="171360" y="1252440"/>
            <a:ext cx="8751960" cy="1594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2"/>
          <a:stretch/>
        </p:blipFill>
        <p:spPr>
          <a:xfrm>
            <a:off x="171360" y="4183200"/>
            <a:ext cx="86011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73D-6183-4EC8-A28A-772422FAD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Primer instrukcija </a:t>
            </a:r>
            <a:br>
              <a:rPr sz="4400"/>
            </a:b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Load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/</a:t>
            </a: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Store Mult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61240" y="1995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tanje 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5406120" y="1919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DMDB r3!, {r0-r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530640" y="22240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0 = 0x00000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1 = 0x00000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2 = 0x00000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3 = 0x0007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554760" y="3657600"/>
            <a:ext cx="264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MIA r3!, {r0-r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 r0,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 r1,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 r2,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536400" y="4967280"/>
            <a:ext cx="18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tanje pos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609480" y="5388120"/>
            <a:ext cx="4572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m32[0x00007000] = 0x00000005 mem32[0x00007004] = 0x00000006 mem32[0x00007008] = 0x00000007 r3 = 0x0000700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412960" y="2590920"/>
            <a:ext cx="18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tanje pos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5486400" y="3011400"/>
            <a:ext cx="2666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0 = 0x00000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1 = 0x00000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2 = 0x00000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3 = 0x00007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5334120" y="41148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instrukcija Load/Store Multiple može se koristiti za privremeno čuvanje vrednosti iz skupa registara u operativnoj memoriji.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reba paziti da se usaglase instrukcije LDM i STM kada se isti registri prvo čuvaju u memoriji, a potom restaurir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179-E5C3-4052-83CB-587A04B63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Opera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cije nad stek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609480" y="1523880"/>
            <a:ext cx="82296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d ARMa se za rad sa stekom koriste load-store multiple instru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er može izabrati, da li stek raste ka višim(A od ascending) ili nižim (D od descending) memorijskim adresama, kao i da li pokazivač stek ukazuje na poslednju punu (F od full) ili prvu praznu (E od empty) lokaci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7" descr=""/>
          <p:cNvPicPr/>
          <p:nvPr/>
        </p:nvPicPr>
        <p:blipFill>
          <a:blip r:embed="rId1"/>
          <a:stretch/>
        </p:blipFill>
        <p:spPr>
          <a:xfrm>
            <a:off x="266760" y="4368960"/>
            <a:ext cx="85723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50F0-729D-46DF-A9DA-D498044E6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Opera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cije nad stek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609480" y="1523880"/>
            <a:ext cx="822960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Npr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STMFA sp!, {r5,r7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isku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 rastuć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sp ukazuje na lokaciju iza one na kojoj je vrednost registr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MFA sp!, {r5,r7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ekvivalent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rukciji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MIB r13, {r5,r7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89CF-B4CE-42D6-8130-78A277F60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Učitavanje konsta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99540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 algn="just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što se sve instrukcije kodiraju fiksno u 32bita, ne postoji instrukcija koja registar može da napuni 32bitnom neposrednom konstan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pseudo instrukcije za učitavanje konstante u regi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 instrukcija odnosi se na dovođenje adrese labele u Rd, koristeći pc i oduzimanje/dodavanje k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R instrukciju asembler prevodi u druge instrukcije, uključujući i čitanje konstante iz memorije ako nema drugog način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741240" y="3200400"/>
            <a:ext cx="6458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er prevođenja pseudoinstr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instrukcija LDR r0, = 0xff00ffff može se prevesti na dva nač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R r0, [pc, #constant_number-8-{PC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_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D 0xff00ffff  @ takozvani bazen liter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lternativn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N r0, #0x00ff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embler će naravno odabrati drugi kao efikasn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2539-7208-425C-B6AC-79A864FA4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Arial"/>
              </a:rPr>
              <a:t>Učitavanje konstanti od ARMv6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W instrukcija (move wide), će učitati iz instrukcijskog koda 16-bitnu konstantu u ciljni reg, a obrisati njegovih gornjih 16 b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T (move top) će ubaciti16-bit konstantu u gornju polovinu ciljnog registra, bez promene donjih 16 bita. Ovo koristi MOV32 pseudo-instrukcija koja može konstruisati bilo koju 32-bitnu konstan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ksi :upper16: i :lower16: omogućavaju da se izdvoji odgovarajuća polovina 32-bitne kons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W R0, #:lower16: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T R0, #:upper16: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2929-8004-429B-8321-F1F2C518F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9722-47B1-48A9-85BB-8BB4F66AC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Instrukcije sko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686800" cy="13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122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rukcije skoka koriste se da promene tok kontrole progr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lovni, bezuslovni skokovi i petl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2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trukcij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ko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, BL, BX, BL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290520" y="2778120"/>
            <a:ext cx="85629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2906-705B-4E7B-8496-C1A89E6F0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Instrukcije sko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2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kokovi se često uslovljavaj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, NE, CS, CC, MI, PL, VS, HI, LS, GE, LT, GT, 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1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1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Q lab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@ Branch to label, if Z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1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312"/>
              </a:spcBef>
              <a:buClr>
                <a:srgbClr val="000000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e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e se pamti u okviru instrukcijske reči kao relativni pomeraj u odnosu na PC i mora biti unutar 32 Mb od instrukcije sk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312"/>
              </a:spcBef>
              <a:buClr>
                <a:srgbClr val="000000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je thumb bit u CPSR. Kada instrukcija setuje T, procesor ulazi u thumb režim izvršavanja i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hitekture i proces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EF2C-36C5-462F-9033-0173B28F0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37960" y="1417680"/>
            <a:ext cx="7813800" cy="3432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7972200" y="1382760"/>
            <a:ext cx="119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Mv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ex A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ex A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765720" y="5381640"/>
            <a:ext cx="797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janta A – aplikativni (visoke performanse), M embedded (mala potrošn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bar odziv na prekide), R – real time (deterministički vremenski odz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ver pisan za v4T može da se izvršava i na v7 (vertikalna kompatibil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A03-B5D3-4D80-9704-B90DFFDEC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961920" y="401760"/>
            <a:ext cx="732168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5066-0CE4-4ECF-9883-334E531FA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Potprogr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86868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2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strukcij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 (Branch and Link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koristiti za poziv potprograma, osim skoka povratna adresa (adresa instrukcije iza BL) upisuje se u link reg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1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 sub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1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rout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1000"/>
              </a:lnSpc>
              <a:spcBef>
                <a:spcPts val="28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 code for sub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V pc, l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 return by moving lr to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1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o važi kada se sve prevodi kao arm (-marm na komandnoj liniji) ili sve kao thumb (-mthum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1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46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M Thumb inter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065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uće je “mešati” ARM i Thumb kod u različitim potprogramima. C kompajler to automatski rešava, a na nivou asemblera programer mora da pazi i uputi asembler šta je 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arm @ sledeće instrukcije prevodi kao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 subroutine @ ovde bi trebalo blx ali ne m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linker će da sr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.  .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thumb_func @ sledeće prevodi kao thumb, dodat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se zna da je ovo ulaz u potp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routin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ovo se može pozvati i iz ARM i i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thumb koda, radiće isprav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x l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ovde mora blx, greška bi bilo mov pc, 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jer ne menja T bit u CP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B398-7537-499D-B196-E1C06A2C8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-3600"/>
            <a:ext cx="897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cije pozivanja pot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31840" y="918720"/>
            <a:ext cx="891216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Binary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naziv za standardni skup konvencija kojeg moraju da se pridržavaju programi u nekom izvršnom okruženju (na nekom procesoru i operativnom siste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r. za x86 Linux, to je doku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V ABI, IA32 Supplement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co.com/developers/devspecs/abi386-4.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ARM postoji serija dokumenata koja definiše ABI, za nas je najinteresantnij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 Call Standard for the ARM architecture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focenter.arm.com/help/topic/com.arm.doc.ihi0042e/IHI0042E_aapcs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APCS) je deo ABI i precizira konvencije za korišćenje registara i steka  od strane kompajlera i tokom poziva pot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B693-A612-45EC-80EB-D0B470045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P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4B2F-6A76-47C6-B279-750686867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3044880" y="254160"/>
            <a:ext cx="592452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P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 se po ulozi u pozivanju potprograma dele u tri gru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 R0-R3 za prenos argumenata (scratch regs, tj. pozvani ih ne mora čuvati pre korišć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 R4-R11 koje čuva pozvani pp (calee-saved) na steku pre korišćenja (za svoje lokalne promenlj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i sa posebnom namenom (npr. pc, sp, lr, R12-linker korist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9CA7-B126-4449-9740-2532D7E71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P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85760" y="1217520"/>
            <a:ext cx="879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va četiri parametra (veličine reči) prosleđena u funkciju će biti u registrima R0-R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i manje veličine (na primer, znak) će i dalje koristiti ceo registar. Argumenti veći od reči će biti preneti u više registara. Ako ima još argumenata, peti i kasniji će biti preneti na steku (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1 kod ARM koda, odnosno R7 kod thumb koda igraju ulogu frame pointera (kao EBP kod x86) u situacijama kada je potreban, npr. kada nije da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cc -fomit-frame-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ija koja vraća char, short, int ili single-precision float vrednost će to učiniti pomoću R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kcija koja vraća 64-bitnu vrednost (dupla preciznost pokr. zarez ili long long) čini to u R0 i R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3A9-5786-477C-BF14-0EC80615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P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89028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valac će imati kod nalik na sledeć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may need to preserve r0-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does not need to preserve r4-r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 Fu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vana fukcija će imati kod nalik na sledeć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Must preserve r4-r11, l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May corrupt r0-r3, r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 {r4-r11, lr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 {r4-r11, p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Returns value in r0 - char, short or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Returns value in r0 &amp; r1 - 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/POP moraju imati paran broj registara u situacijama kada se zahteva dvo-rečno uravnavanje steka (sledeći slajd). Ovo ne moraju da rade leaf funkcije (koje dalje ne zovu nikog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D80B-AFD9-4BBC-AEC1-502B4538B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P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11132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Stek je oblast memorije koja se koristi za skladištenje lokalnih promenljivih (kao i z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nošenje dodat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argu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potprograma ka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ostoji dovoljno reg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na raspolaganju).Stek 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descending (pun opadajući)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ući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vrh steka uka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R13 (SP).Stek mora biti kontin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u virtuel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memorijsk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pros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Stek uvek mora biti 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nat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a granici reči, osim u javnom interfejsu, kada mora bit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avnat na duplu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re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A74A-B12B-4324-B7D1-427A34320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7B18-1591-434C-8C3E-DE3A0EF8F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Uslovno izvršavanje instr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42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kod svih drugih instrukcija osim skokova, njihovo izvršavanje može biti uslovlj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EQ r4, r5, r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@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vršava se samo ako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Z=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pomaže efikasnije izvršavanje tako što se redukuje upotreba instrukcija uslovnih sko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134-5C80-40D3-B572-B2A6D3D6D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news"/>
          <p:cNvPicPr/>
          <p:nvPr/>
        </p:nvPicPr>
        <p:blipFill>
          <a:blip r:embed="rId1"/>
          <a:stretch/>
        </p:blipFill>
        <p:spPr>
          <a:xfrm>
            <a:off x="0" y="708120"/>
            <a:ext cx="9144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B6AE-5CE1-45C6-8CD4-7FB46AB30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069920" y="1611360"/>
            <a:ext cx="5222880" cy="2394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069920" y="4622760"/>
            <a:ext cx="4822920" cy="1049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229400" y="4143240"/>
            <a:ext cx="43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vivalentan kod uz uslovno izvršavan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mb instrukcijski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skup ARM seta, instrukcije se kodiraju sa 16bita. Postiže 30% manje zauzeće memorije i bolje performanse, ali samo kod sistema sa 16bitnim data busom (neki mikrokontroleri) inače slabi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njeno upotrebi od strane kompajlera, ne ručnom kodiran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D61-4347-44FC-AF05-961D687AB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mb instrukcijski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ka thumb interno se preslikava (d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uje) na neku ARM instrukc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17AE-AE10-4B11-B936-9B11D84A8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838160" y="2976480"/>
            <a:ext cx="532476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mb instrukcijski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B2DB-3F73-49E7-8CCF-5D4567D36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43000" y="1417680"/>
            <a:ext cx="86850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mb instrukcijski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40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na ograničenja u odnosu na A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o registri r0-r7 direktno dostupni većini instr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ukcije obrade podataka su dvoadresne (jedan od operanda je i odrediš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d Thumba, jedino se instrukcije skoka izvršavaju uslovno. Operacije kružnog pomeranja (ASR, LSL, LSR, i ROR) su posebne instruk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M/STM instrukcije jedino podržavaju increment after (IA) varijantu. Thumb skup instrukcija uključuje POP i PUSH instrukcije kao operacije nad stekom. Ove instrukcije rade samo sa punim opadajućim stek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a Thumb instrukcija za pristup cpsr i sps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7953-1C17-432F-807F-AE2F1BF9A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4890-439F-4F0F-9A16-D7AAF346C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0065"/>
                </a:solidFill>
                <a:latin typeface="Arial"/>
              </a:rPr>
              <a:t>Privilegovani režimi rada proces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52560" y="1417680"/>
            <a:ext cx="909144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F2E6-16F9-40E4-A6C4-6A2EA64C0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Registri u se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185840" y="1265400"/>
            <a:ext cx="67723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7BB2-93FA-4CE7-A6D8-F83F9F8C9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5"/>
                </a:solidFill>
                <a:latin typeface="Arial"/>
              </a:rPr>
              <a:t>Obrada izuzet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uvanje trenutnog stanja kopiranj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in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_exc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PS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SR_exc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c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zavisi od vrste prek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žim rada procesora menja se u odgovarajući režim obrade izuzetka, t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urira 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S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4:0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 PC se upisuje vrednost izm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0x00 i 0x1C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visno od vrste izuze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vršava se instrukcija na toj adresi (obično skok na potprogram za obradu izuzetk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sti se shadow stek regist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_exc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i mora biti definisan pri inicijalizaciji sistema, da se sačuvaju korisnički registri i preduzme obrada izuzet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snički registri se restauriraju sa shadow steka a zatim se vrši povratak u korisnički program i režim atomičnom restauracij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PSR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gistara specijalnom formom MOV instrukci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4AAB-E02F-4356-937E-180A5BF67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330065"/>
                </a:solidFill>
                <a:latin typeface="Arial"/>
              </a:rPr>
              <a:t>VC</a:t>
            </a:r>
            <a:r>
              <a:rPr b="0" lang="sr-Latn-CS" sz="4400" spc="-1" strike="noStrike">
                <a:solidFill>
                  <a:srgbClr val="330065"/>
                </a:solidFill>
                <a:latin typeface="Arial"/>
              </a:rPr>
              <a:t>: softverski prekid</a:t>
            </a:r>
            <a:r>
              <a:rPr b="0" lang="en-US" sz="4400" spc="-1" strike="noStrike">
                <a:solidFill>
                  <a:srgbClr val="330065"/>
                </a:solidFill>
                <a:latin typeface="Arial"/>
              </a:rPr>
              <a:t> (ex. SW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strukcija softverskog preki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n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vlja procesor u privilegovani režim i započinje izvršavanje instrukcija sa adrese 0x08, na način kako je opisano na prethodnom slaj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metar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nn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24-bitna neposredna veličina (kodirana u instrukciji), ne utiče na izvršavanje, osim što sistemski kod može da ga pročita i interpretira šta korisnik traž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jčešće se koristi za sistemske pozive kojima korisnički program traži servis operativ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vratak iz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VS pc, r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 – specijalna forma instrukcije restaurira i originalni CP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297D-4E99-4DA2-A9F3-34626FE25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909080" y="45720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5"/>
                </a:solidFill>
                <a:latin typeface="Arial Bold"/>
              </a:rPr>
              <a:t>ARM as</a:t>
            </a:r>
            <a:r>
              <a:rPr b="1" lang="sr-Latn-CS" sz="3600" spc="-1" strike="noStrike">
                <a:solidFill>
                  <a:srgbClr val="330065"/>
                </a:solidFill>
                <a:latin typeface="Arial"/>
              </a:rPr>
              <a:t>emblerski jez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57200" y="1380960"/>
            <a:ext cx="84582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semblerski jezik je simbolička predstava mašinskog skupa instrukcija (praktično jedan prema jed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2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iše se po jedna instrukcija u lini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mboli (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ezbeđuju imena adres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finišu se pisanjem u prvoj kol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cija se piše u narednim kolo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2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strukcija ide do kraja reda, ili do početka komentara s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2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5"/>
          <p:cNvGrpSpPr/>
          <p:nvPr/>
        </p:nvGrpSpPr>
        <p:grpSpPr>
          <a:xfrm>
            <a:off x="1905120" y="3809880"/>
            <a:ext cx="5866560" cy="1599480"/>
            <a:chOff x="1905120" y="3809880"/>
            <a:chExt cx="5866560" cy="1599480"/>
          </a:xfrm>
        </p:grpSpPr>
        <p:sp>
          <p:nvSpPr>
            <p:cNvPr id="86" name="Freeform 8"/>
            <p:cNvSpPr/>
            <p:nvPr/>
          </p:nvSpPr>
          <p:spPr>
            <a:xfrm>
              <a:off x="5797800" y="3809880"/>
              <a:ext cx="1973880" cy="1365480"/>
            </a:xfrm>
            <a:custGeom>
              <a:avLst/>
              <a:gdLst>
                <a:gd name="textAreaLeft" fmla="*/ 0 w 1973880"/>
                <a:gd name="textAreaRight" fmla="*/ 1974240 w 197388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567" h="1007">
                  <a:moveTo>
                    <a:pt x="0" y="0"/>
                  </a:moveTo>
                  <a:lnTo>
                    <a:pt x="0" y="1007"/>
                  </a:lnTo>
                  <a:lnTo>
                    <a:pt x="1567" y="1007"/>
                  </a:lnTo>
                  <a:lnTo>
                    <a:pt x="1567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5797800" y="3809880"/>
              <a:ext cx="1973880" cy="1368360"/>
            </a:xfrm>
            <a:custGeom>
              <a:avLst/>
              <a:gdLst>
                <a:gd name="textAreaLeft" fmla="*/ 0 w 1973880"/>
                <a:gd name="textAreaRight" fmla="*/ 1974240 w 197388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567" h="1007">
                  <a:moveTo>
                    <a:pt x="0" y="0"/>
                  </a:moveTo>
                  <a:lnTo>
                    <a:pt x="0" y="1007"/>
                  </a:lnTo>
                  <a:lnTo>
                    <a:pt x="1567" y="1007"/>
                  </a:lnTo>
                  <a:lnTo>
                    <a:pt x="156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>
              <a:off x="5797800" y="3809880"/>
              <a:ext cx="197388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3112920" y="3809880"/>
              <a:ext cx="2188800" cy="1365480"/>
            </a:xfrm>
            <a:custGeom>
              <a:avLst/>
              <a:gdLst>
                <a:gd name="textAreaLeft" fmla="*/ 0 w 2188800"/>
                <a:gd name="textAreaRight" fmla="*/ 2189160 w 218880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734" h="1007">
                  <a:moveTo>
                    <a:pt x="0" y="0"/>
                  </a:moveTo>
                  <a:lnTo>
                    <a:pt x="0" y="1007"/>
                  </a:lnTo>
                  <a:lnTo>
                    <a:pt x="1734" y="1007"/>
                  </a:lnTo>
                  <a:lnTo>
                    <a:pt x="1734" y="0"/>
                  </a:lnTo>
                  <a:close/>
                </a:path>
              </a:pathLst>
            </a:custGeom>
            <a:solidFill>
              <a:srgbClr val="7e9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3116520" y="3809880"/>
              <a:ext cx="2185200" cy="1368360"/>
            </a:xfrm>
            <a:custGeom>
              <a:avLst/>
              <a:gdLst>
                <a:gd name="textAreaLeft" fmla="*/ 0 w 2185200"/>
                <a:gd name="textAreaRight" fmla="*/ 2185560 w 218520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733" h="1007">
                  <a:moveTo>
                    <a:pt x="0" y="0"/>
                  </a:moveTo>
                  <a:lnTo>
                    <a:pt x="0" y="1007"/>
                  </a:lnTo>
                  <a:lnTo>
                    <a:pt x="1733" y="1007"/>
                  </a:lnTo>
                  <a:lnTo>
                    <a:pt x="1733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3116520" y="3809880"/>
              <a:ext cx="218520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1983600" y="3809880"/>
              <a:ext cx="779400" cy="136548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616" h="1007">
                  <a:moveTo>
                    <a:pt x="0" y="0"/>
                  </a:moveTo>
                  <a:lnTo>
                    <a:pt x="0" y="1007"/>
                  </a:lnTo>
                  <a:lnTo>
                    <a:pt x="616" y="1007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ccc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1983600" y="3809880"/>
              <a:ext cx="779400" cy="136836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616" h="1007">
                  <a:moveTo>
                    <a:pt x="0" y="0"/>
                  </a:moveTo>
                  <a:lnTo>
                    <a:pt x="0" y="1007"/>
                  </a:lnTo>
                  <a:lnTo>
                    <a:pt x="616" y="1007"/>
                  </a:lnTo>
                  <a:lnTo>
                    <a:pt x="616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6"/>
            <p:cNvSpPr/>
            <p:nvPr/>
          </p:nvSpPr>
          <p:spPr>
            <a:xfrm>
              <a:off x="1983600" y="3809880"/>
              <a:ext cx="77940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1911240" y="5113800"/>
              <a:ext cx="369000" cy="14940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292" h="110">
                  <a:moveTo>
                    <a:pt x="0" y="95"/>
                  </a:moveTo>
                  <a:lnTo>
                    <a:pt x="288" y="0"/>
                  </a:lnTo>
                  <a:lnTo>
                    <a:pt x="292" y="14"/>
                  </a:lnTo>
                  <a:lnTo>
                    <a:pt x="4" y="11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2255400" y="5089680"/>
              <a:ext cx="81360" cy="7524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66" h="55">
                  <a:moveTo>
                    <a:pt x="0" y="0"/>
                  </a:moveTo>
                  <a:lnTo>
                    <a:pt x="66" y="9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1905120" y="4472280"/>
              <a:ext cx="409680" cy="7848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325" h="579">
                  <a:moveTo>
                    <a:pt x="0" y="572"/>
                  </a:moveTo>
                  <a:lnTo>
                    <a:pt x="312" y="0"/>
                  </a:lnTo>
                  <a:lnTo>
                    <a:pt x="325" y="7"/>
                  </a:lnTo>
                  <a:lnTo>
                    <a:pt x="13" y="579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2271240" y="4417560"/>
              <a:ext cx="65520" cy="885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4" h="66">
                  <a:moveTo>
                    <a:pt x="0" y="38"/>
                  </a:moveTo>
                  <a:lnTo>
                    <a:pt x="54" y="0"/>
                  </a:lnTo>
                  <a:lnTo>
                    <a:pt x="52" y="6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6516360" y="4550040"/>
              <a:ext cx="346680" cy="859320"/>
            </a:xfrm>
            <a:custGeom>
              <a:avLst/>
              <a:gdLst>
                <a:gd name="textAreaLeft" fmla="*/ 0 w 346680"/>
                <a:gd name="textAreaRight" fmla="*/ 347040 w 346680"/>
                <a:gd name="textAreaTop" fmla="*/ 0 h 859320"/>
                <a:gd name="textAreaBottom" fmla="*/ 859680 h 859320"/>
              </a:gdLst>
              <a:ahLst/>
              <a:rect l="textAreaLeft" t="textAreaTop" r="textAreaRight" b="textAreaBottom"/>
              <a:pathLst>
                <a:path w="275" h="631">
                  <a:moveTo>
                    <a:pt x="261" y="631"/>
                  </a:moveTo>
                  <a:lnTo>
                    <a:pt x="0" y="6"/>
                  </a:lnTo>
                  <a:lnTo>
                    <a:pt x="13" y="0"/>
                  </a:lnTo>
                  <a:lnTo>
                    <a:pt x="275" y="625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6494400" y="4496040"/>
              <a:ext cx="72720" cy="874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6" h="66">
                  <a:moveTo>
                    <a:pt x="0" y="66"/>
                  </a:moveTo>
                  <a:lnTo>
                    <a:pt x="5" y="0"/>
                  </a:lnTo>
                  <a:lnTo>
                    <a:pt x="56" y="42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3810600" y="4862520"/>
              <a:ext cx="24840" cy="3902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0" h="287">
                  <a:moveTo>
                    <a:pt x="0" y="287"/>
                  </a:moveTo>
                  <a:lnTo>
                    <a:pt x="20" y="287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3784680" y="4794840"/>
              <a:ext cx="75600" cy="81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59" h="59">
                  <a:moveTo>
                    <a:pt x="0" y="59"/>
                  </a:moveTo>
                  <a:lnTo>
                    <a:pt x="29" y="0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6"/>
          <p:cNvSpPr/>
          <p:nvPr/>
        </p:nvSpPr>
        <p:spPr>
          <a:xfrm>
            <a:off x="1451160" y="53341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221640" y="533412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6295320" y="5348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en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3124080" y="38386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r1, #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r1, r1,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2057400" y="383868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579132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 a wait lo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</a:rPr>
              <a:t>Čemu programiranje na asembler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4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nosti viših programskih jezika: lakše i brže programiranje, nezavisnost od hardvera, prenosivo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đutim, industrijski kontroleri se često programiraju na asembleru (masovna proizvodnja, jeftin hardver) =&gt; efikasnost, striktna kontrola hardv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ki delovi kernela operativnog sistema moraju se pisati na asembleru (i za pisanje linkera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ikativnom programeru pomaže da bolje razume proces prevođenja i izvršavanja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40B6-009A-4010-84C3-84DB24AA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1093-584D-44C3-ADEE-EEEFCC282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65"/>
                </a:solidFill>
                <a:latin typeface="Arial Bold"/>
              </a:rPr>
              <a:t>Programski model:</a:t>
            </a:r>
            <a:br>
              <a:rPr sz="4000"/>
            </a:br>
            <a:r>
              <a:rPr b="0" lang="en-US" sz="4000" spc="-1" strike="noStrike">
                <a:solidFill>
                  <a:srgbClr val="330065"/>
                </a:solidFill>
                <a:latin typeface="Arial Bold"/>
              </a:rPr>
              <a:t>Registeri dostupni u korisni</a:t>
            </a:r>
            <a:r>
              <a:rPr b="0" lang="sr-Latn-CS" sz="4000" spc="-1" strike="noStrike">
                <a:solidFill>
                  <a:srgbClr val="330065"/>
                </a:solidFill>
                <a:latin typeface="Arial"/>
              </a:rPr>
              <a:t>čkom režim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5"/>
                </a:solidFill>
                <a:latin typeface="Wingdings"/>
                <a:ea typeface="Wingdings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Verdana Italic"/>
              </a:rPr>
              <a:t>ARM procesor ima 17 programeru dostupnih registara u korisničkom m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regi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ra opšte namene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 (r0-r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9999"/>
                </a:solidFill>
                <a:latin typeface="Wingdings"/>
                <a:ea typeface="Wingdings"/>
              </a:rPr>
              <a:t>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gistar statusa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proceso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ist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Italic"/>
              </a:rPr>
              <a:t>r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 Italic"/>
              </a:rPr>
              <a:t>r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aju i specijalna zaduž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r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pokaziva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r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regi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eze (link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l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9999"/>
                </a:solidFill>
                <a:latin typeface="Wingdings"/>
                <a:ea typeface="Wingdings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r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progra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ki broja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61"/>
          <p:cNvGrpSpPr/>
          <p:nvPr/>
        </p:nvGrpSpPr>
        <p:grpSpPr>
          <a:xfrm>
            <a:off x="6095880" y="1771560"/>
            <a:ext cx="1828440" cy="4247640"/>
            <a:chOff x="6095880" y="1771560"/>
            <a:chExt cx="1828440" cy="4247640"/>
          </a:xfrm>
        </p:grpSpPr>
        <p:sp>
          <p:nvSpPr>
            <p:cNvPr id="116" name="Freeform 5"/>
            <p:cNvSpPr/>
            <p:nvPr/>
          </p:nvSpPr>
          <p:spPr>
            <a:xfrm>
              <a:off x="6095880" y="2165400"/>
              <a:ext cx="767160" cy="38988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"/>
            <p:cNvSpPr/>
            <p:nvPr/>
          </p:nvSpPr>
          <p:spPr>
            <a:xfrm>
              <a:off x="6095880" y="2168640"/>
              <a:ext cx="767160" cy="38664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5">
                  <a:moveTo>
                    <a:pt x="0" y="0"/>
                  </a:moveTo>
                  <a:lnTo>
                    <a:pt x="0" y="275"/>
                  </a:lnTo>
                  <a:lnTo>
                    <a:pt x="728" y="275"/>
                  </a:lnTo>
                  <a:lnTo>
                    <a:pt x="728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6095880" y="2168640"/>
              <a:ext cx="76716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"/>
            <p:cNvSpPr/>
            <p:nvPr/>
          </p:nvSpPr>
          <p:spPr>
            <a:xfrm>
              <a:off x="6098760" y="177156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"/>
            <p:cNvSpPr/>
            <p:nvPr/>
          </p:nvSpPr>
          <p:spPr>
            <a:xfrm>
              <a:off x="6098760" y="177156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6098760" y="177156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"/>
            <p:cNvSpPr/>
            <p:nvPr/>
          </p:nvSpPr>
          <p:spPr>
            <a:xfrm>
              <a:off x="6098760" y="295308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"/>
            <p:cNvSpPr/>
            <p:nvPr/>
          </p:nvSpPr>
          <p:spPr>
            <a:xfrm>
              <a:off x="6098760" y="295308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6098760" y="295308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4"/>
            <p:cNvSpPr/>
            <p:nvPr/>
          </p:nvSpPr>
          <p:spPr>
            <a:xfrm>
              <a:off x="6098760" y="255924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5"/>
            <p:cNvSpPr/>
            <p:nvPr/>
          </p:nvSpPr>
          <p:spPr>
            <a:xfrm>
              <a:off x="6100920" y="2559240"/>
              <a:ext cx="761760" cy="3866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7" h="276">
                  <a:moveTo>
                    <a:pt x="0" y="0"/>
                  </a:moveTo>
                  <a:lnTo>
                    <a:pt x="0" y="276"/>
                  </a:lnTo>
                  <a:lnTo>
                    <a:pt x="727" y="276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6100920" y="2559240"/>
              <a:ext cx="76176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6098760" y="373716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6098760" y="374040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6098760" y="374040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0"/>
            <p:cNvSpPr/>
            <p:nvPr/>
          </p:nvSpPr>
          <p:spPr>
            <a:xfrm>
              <a:off x="6098760" y="334296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6100920" y="3342960"/>
              <a:ext cx="761760" cy="3866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7" h="276">
                  <a:moveTo>
                    <a:pt x="0" y="0"/>
                  </a:moveTo>
                  <a:lnTo>
                    <a:pt x="0" y="276"/>
                  </a:lnTo>
                  <a:lnTo>
                    <a:pt x="727" y="276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>
              <a:off x="6100920" y="3342960"/>
              <a:ext cx="76176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6098760" y="452484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4"/>
            <p:cNvSpPr/>
            <p:nvPr/>
          </p:nvSpPr>
          <p:spPr>
            <a:xfrm>
              <a:off x="6098760" y="452484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6098760" y="452484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6"/>
            <p:cNvSpPr/>
            <p:nvPr/>
          </p:nvSpPr>
          <p:spPr>
            <a:xfrm>
              <a:off x="6098760" y="4127040"/>
              <a:ext cx="763920" cy="39060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7"/>
            <p:cNvSpPr/>
            <p:nvPr/>
          </p:nvSpPr>
          <p:spPr>
            <a:xfrm>
              <a:off x="6100920" y="4131000"/>
              <a:ext cx="761760" cy="3866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7" h="276">
                  <a:moveTo>
                    <a:pt x="0" y="0"/>
                  </a:moveTo>
                  <a:lnTo>
                    <a:pt x="0" y="276"/>
                  </a:lnTo>
                  <a:lnTo>
                    <a:pt x="727" y="276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6100920" y="4131000"/>
              <a:ext cx="76176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9"/>
            <p:cNvSpPr/>
            <p:nvPr/>
          </p:nvSpPr>
          <p:spPr>
            <a:xfrm>
              <a:off x="7154640" y="216540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0"/>
            <p:cNvSpPr/>
            <p:nvPr/>
          </p:nvSpPr>
          <p:spPr>
            <a:xfrm>
              <a:off x="7154640" y="216864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5">
                  <a:moveTo>
                    <a:pt x="0" y="0"/>
                  </a:moveTo>
                  <a:lnTo>
                    <a:pt x="0" y="275"/>
                  </a:lnTo>
                  <a:lnTo>
                    <a:pt x="728" y="275"/>
                  </a:lnTo>
                  <a:lnTo>
                    <a:pt x="728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7154640" y="216864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2"/>
            <p:cNvSpPr/>
            <p:nvPr/>
          </p:nvSpPr>
          <p:spPr>
            <a:xfrm>
              <a:off x="7157160" y="177156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3"/>
            <p:cNvSpPr/>
            <p:nvPr/>
          </p:nvSpPr>
          <p:spPr>
            <a:xfrm>
              <a:off x="7157160" y="177156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7" h="277">
                  <a:moveTo>
                    <a:pt x="0" y="0"/>
                  </a:moveTo>
                  <a:lnTo>
                    <a:pt x="0" y="277"/>
                  </a:lnTo>
                  <a:lnTo>
                    <a:pt x="727" y="277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7157160" y="177156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5"/>
            <p:cNvSpPr/>
            <p:nvPr/>
          </p:nvSpPr>
          <p:spPr>
            <a:xfrm>
              <a:off x="7157160" y="295308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6"/>
            <p:cNvSpPr/>
            <p:nvPr/>
          </p:nvSpPr>
          <p:spPr>
            <a:xfrm>
              <a:off x="7157160" y="295308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7" h="276">
                  <a:moveTo>
                    <a:pt x="0" y="0"/>
                  </a:moveTo>
                  <a:lnTo>
                    <a:pt x="0" y="276"/>
                  </a:lnTo>
                  <a:lnTo>
                    <a:pt x="727" y="276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7157160" y="295308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8"/>
            <p:cNvSpPr/>
            <p:nvPr/>
          </p:nvSpPr>
          <p:spPr>
            <a:xfrm>
              <a:off x="7157160" y="2559240"/>
              <a:ext cx="767160" cy="38664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9"/>
            <p:cNvSpPr/>
            <p:nvPr/>
          </p:nvSpPr>
          <p:spPr>
            <a:xfrm>
              <a:off x="7159320" y="2559240"/>
              <a:ext cx="764640" cy="386640"/>
            </a:xfrm>
            <a:custGeom>
              <a:avLst/>
              <a:gdLst>
                <a:gd name="textAreaLeft" fmla="*/ 0 w 764640"/>
                <a:gd name="textAreaRight" fmla="*/ 765000 w 7646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7" h="276">
                  <a:moveTo>
                    <a:pt x="0" y="0"/>
                  </a:moveTo>
                  <a:lnTo>
                    <a:pt x="0" y="276"/>
                  </a:lnTo>
                  <a:lnTo>
                    <a:pt x="727" y="276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7159320" y="2559240"/>
              <a:ext cx="76464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1"/>
            <p:cNvSpPr/>
            <p:nvPr/>
          </p:nvSpPr>
          <p:spPr>
            <a:xfrm>
              <a:off x="7157160" y="373716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66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2"/>
            <p:cNvSpPr/>
            <p:nvPr/>
          </p:nvSpPr>
          <p:spPr>
            <a:xfrm>
              <a:off x="7157160" y="374040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7" h="276">
                  <a:moveTo>
                    <a:pt x="0" y="0"/>
                  </a:moveTo>
                  <a:lnTo>
                    <a:pt x="0" y="276"/>
                  </a:lnTo>
                  <a:lnTo>
                    <a:pt x="727" y="276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3"/>
            <p:cNvSpPr/>
            <p:nvPr/>
          </p:nvSpPr>
          <p:spPr>
            <a:xfrm>
              <a:off x="7157160" y="374040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4"/>
            <p:cNvSpPr/>
            <p:nvPr/>
          </p:nvSpPr>
          <p:spPr>
            <a:xfrm>
              <a:off x="7157160" y="3342960"/>
              <a:ext cx="767160" cy="38664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d8d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5"/>
            <p:cNvSpPr/>
            <p:nvPr/>
          </p:nvSpPr>
          <p:spPr>
            <a:xfrm>
              <a:off x="7159320" y="3342960"/>
              <a:ext cx="764640" cy="386640"/>
            </a:xfrm>
            <a:custGeom>
              <a:avLst/>
              <a:gdLst>
                <a:gd name="textAreaLeft" fmla="*/ 0 w 764640"/>
                <a:gd name="textAreaRight" fmla="*/ 765000 w 7646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7" h="276">
                  <a:moveTo>
                    <a:pt x="0" y="0"/>
                  </a:moveTo>
                  <a:lnTo>
                    <a:pt x="0" y="276"/>
                  </a:lnTo>
                  <a:lnTo>
                    <a:pt x="727" y="276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6"/>
            <p:cNvSpPr/>
            <p:nvPr/>
          </p:nvSpPr>
          <p:spPr>
            <a:xfrm>
              <a:off x="7159320" y="3342960"/>
              <a:ext cx="76464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7"/>
            <p:cNvSpPr/>
            <p:nvPr/>
          </p:nvSpPr>
          <p:spPr>
            <a:xfrm>
              <a:off x="7157160" y="452484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66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8"/>
            <p:cNvSpPr/>
            <p:nvPr/>
          </p:nvSpPr>
          <p:spPr>
            <a:xfrm>
              <a:off x="7157160" y="452484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7" h="277">
                  <a:moveTo>
                    <a:pt x="0" y="0"/>
                  </a:moveTo>
                  <a:lnTo>
                    <a:pt x="0" y="277"/>
                  </a:lnTo>
                  <a:lnTo>
                    <a:pt x="727" y="277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9"/>
            <p:cNvSpPr/>
            <p:nvPr/>
          </p:nvSpPr>
          <p:spPr>
            <a:xfrm>
              <a:off x="7157160" y="452484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0"/>
            <p:cNvSpPr/>
            <p:nvPr/>
          </p:nvSpPr>
          <p:spPr>
            <a:xfrm>
              <a:off x="7157160" y="4127040"/>
              <a:ext cx="767160" cy="390600"/>
            </a:xfrm>
            <a:custGeom>
              <a:avLst/>
              <a:gdLst>
                <a:gd name="textAreaLeft" fmla="*/ 0 w 767160"/>
                <a:gd name="textAreaRight" fmla="*/ 767520 w 7671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66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1"/>
            <p:cNvSpPr/>
            <p:nvPr/>
          </p:nvSpPr>
          <p:spPr>
            <a:xfrm>
              <a:off x="7159320" y="4131000"/>
              <a:ext cx="764640" cy="386640"/>
            </a:xfrm>
            <a:custGeom>
              <a:avLst/>
              <a:gdLst>
                <a:gd name="textAreaLeft" fmla="*/ 0 w 764640"/>
                <a:gd name="textAreaRight" fmla="*/ 765000 w 76464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7" h="276">
                  <a:moveTo>
                    <a:pt x="0" y="0"/>
                  </a:moveTo>
                  <a:lnTo>
                    <a:pt x="0" y="276"/>
                  </a:lnTo>
                  <a:lnTo>
                    <a:pt x="727" y="276"/>
                  </a:lnTo>
                  <a:lnTo>
                    <a:pt x="727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7159320" y="4131000"/>
              <a:ext cx="76464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3"/>
            <p:cNvSpPr/>
            <p:nvPr/>
          </p:nvSpPr>
          <p:spPr>
            <a:xfrm>
              <a:off x="6098760" y="5231520"/>
              <a:ext cx="763920" cy="39060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4"/>
            <p:cNvSpPr/>
            <p:nvPr/>
          </p:nvSpPr>
          <p:spPr>
            <a:xfrm>
              <a:off x="6098760" y="5231520"/>
              <a:ext cx="763920" cy="39060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5"/>
            <p:cNvSpPr/>
            <p:nvPr/>
          </p:nvSpPr>
          <p:spPr>
            <a:xfrm>
              <a:off x="6098760" y="523152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6098760" y="5625360"/>
              <a:ext cx="763920" cy="38988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728" h="277">
                  <a:moveTo>
                    <a:pt x="0" y="0"/>
                  </a:moveTo>
                  <a:lnTo>
                    <a:pt x="0" y="277"/>
                  </a:lnTo>
                  <a:lnTo>
                    <a:pt x="728" y="277"/>
                  </a:lnTo>
                  <a:lnTo>
                    <a:pt x="72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7"/>
            <p:cNvSpPr/>
            <p:nvPr/>
          </p:nvSpPr>
          <p:spPr>
            <a:xfrm>
              <a:off x="6098760" y="5628600"/>
              <a:ext cx="763920" cy="3866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728" h="276">
                  <a:moveTo>
                    <a:pt x="0" y="0"/>
                  </a:moveTo>
                  <a:lnTo>
                    <a:pt x="0" y="276"/>
                  </a:lnTo>
                  <a:lnTo>
                    <a:pt x="728" y="276"/>
                  </a:lnTo>
                  <a:lnTo>
                    <a:pt x="728" y="0"/>
                  </a:lnTo>
                </a:path>
              </a:pathLst>
            </a:custGeom>
            <a:noFill/>
            <a:ln w="11880">
              <a:solidFill>
                <a:srgbClr val="0101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8"/>
            <p:cNvSpPr/>
            <p:nvPr/>
          </p:nvSpPr>
          <p:spPr>
            <a:xfrm>
              <a:off x="6098760" y="5628600"/>
              <a:ext cx="763920" cy="0"/>
            </a:xfrm>
            <a:prstGeom prst="line">
              <a:avLst/>
            </a:prstGeom>
            <a:ln w="118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9"/>
            <p:cNvSpPr/>
            <p:nvPr/>
          </p:nvSpPr>
          <p:spPr>
            <a:xfrm>
              <a:off x="6100920" y="5628600"/>
              <a:ext cx="763920" cy="390600"/>
            </a:xfrm>
            <a:prstGeom prst="line">
              <a:avLst/>
            </a:prstGeom>
            <a:ln w="118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0"/>
            <p:cNvSpPr/>
            <p:nvPr/>
          </p:nvSpPr>
          <p:spPr>
            <a:xfrm>
              <a:off x="6100920" y="6019200"/>
              <a:ext cx="763920" cy="0"/>
            </a:xfrm>
            <a:prstGeom prst="line">
              <a:avLst/>
            </a:prstGeom>
            <a:ln w="1188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62"/>
          <p:cNvSpPr/>
          <p:nvPr/>
        </p:nvSpPr>
        <p:spPr>
          <a:xfrm>
            <a:off x="7086600" y="5638680"/>
            <a:ext cx="190512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3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1100"/>
                </a:solidFill>
                <a:latin typeface="Verdana"/>
              </a:rPr>
              <a:t>n</a:t>
            </a:r>
            <a:r>
              <a:rPr b="0" lang="sr-Latn-CS" sz="1800" spc="-1" strike="noStrike">
                <a:solidFill>
                  <a:srgbClr val="b81100"/>
                </a:solidFill>
                <a:latin typeface="Verdana"/>
              </a:rPr>
              <a:t>edostupan u</a:t>
            </a:r>
            <a:r>
              <a:rPr b="0" lang="en-US" sz="1800" spc="-1" strike="noStrike">
                <a:solidFill>
                  <a:srgbClr val="b81100"/>
                </a:solidFill>
                <a:latin typeface="Verdana"/>
              </a:rPr>
              <a:t> </a:t>
            </a:r>
            <a:r>
              <a:rPr b="0" lang="sr-Latn-CS" sz="1800" spc="-1" strike="noStrike">
                <a:solidFill>
                  <a:srgbClr val="b81100"/>
                </a:solidFill>
                <a:latin typeface="Verdana"/>
              </a:rPr>
              <a:t>korisničkom režimu</a:t>
            </a:r>
            <a:r>
              <a:rPr b="0" lang="en-US" sz="1800" spc="-1" strike="noStrike">
                <a:solidFill>
                  <a:srgbClr val="b81100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5"/>
          <p:cNvSpPr/>
          <p:nvPr/>
        </p:nvSpPr>
        <p:spPr>
          <a:xfrm>
            <a:off x="7149240" y="449568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15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6"/>
          <p:cNvSpPr/>
          <p:nvPr/>
        </p:nvSpPr>
        <p:spPr>
          <a:xfrm>
            <a:off x="7083000" y="4114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14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7092000" y="373392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13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8"/>
          <p:cNvSpPr/>
          <p:nvPr/>
        </p:nvSpPr>
        <p:spPr>
          <a:xfrm>
            <a:off x="7246440" y="33526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9"/>
          <p:cNvSpPr/>
          <p:nvPr/>
        </p:nvSpPr>
        <p:spPr>
          <a:xfrm>
            <a:off x="7227360" y="29718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0"/>
          <p:cNvSpPr/>
          <p:nvPr/>
        </p:nvSpPr>
        <p:spPr>
          <a:xfrm>
            <a:off x="7227360" y="2529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1"/>
          <p:cNvSpPr/>
          <p:nvPr/>
        </p:nvSpPr>
        <p:spPr>
          <a:xfrm>
            <a:off x="7248600" y="2133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2"/>
          <p:cNvSpPr/>
          <p:nvPr/>
        </p:nvSpPr>
        <p:spPr>
          <a:xfrm>
            <a:off x="7248600" y="175248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3"/>
          <p:cNvSpPr/>
          <p:nvPr/>
        </p:nvSpPr>
        <p:spPr>
          <a:xfrm>
            <a:off x="6162840" y="175248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4"/>
          <p:cNvSpPr/>
          <p:nvPr/>
        </p:nvSpPr>
        <p:spPr>
          <a:xfrm>
            <a:off x="6162840" y="214776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5"/>
          <p:cNvSpPr/>
          <p:nvPr/>
        </p:nvSpPr>
        <p:spPr>
          <a:xfrm>
            <a:off x="6181920" y="25909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6"/>
          <p:cNvSpPr/>
          <p:nvPr/>
        </p:nvSpPr>
        <p:spPr>
          <a:xfrm>
            <a:off x="6162840" y="29718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7"/>
          <p:cNvSpPr/>
          <p:nvPr/>
        </p:nvSpPr>
        <p:spPr>
          <a:xfrm>
            <a:off x="6162840" y="335268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8"/>
          <p:cNvSpPr/>
          <p:nvPr/>
        </p:nvSpPr>
        <p:spPr>
          <a:xfrm>
            <a:off x="6162840" y="37339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9"/>
          <p:cNvSpPr/>
          <p:nvPr/>
        </p:nvSpPr>
        <p:spPr>
          <a:xfrm>
            <a:off x="6162840" y="41292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0"/>
          <p:cNvSpPr/>
          <p:nvPr/>
        </p:nvSpPr>
        <p:spPr>
          <a:xfrm>
            <a:off x="6162840" y="451008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1"/>
          <p:cNvSpPr/>
          <p:nvPr/>
        </p:nvSpPr>
        <p:spPr>
          <a:xfrm>
            <a:off x="6156360" y="52578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cp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2"/>
          <p:cNvSpPr/>
          <p:nvPr/>
        </p:nvSpPr>
        <p:spPr>
          <a:xfrm>
            <a:off x="6162840" y="56530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 Italic"/>
              </a:rPr>
              <a:t>sp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B3C7-8183-4CF0-90C1-F38D90EE6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98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65"/>
                </a:solidFill>
                <a:latin typeface="Arial Bold"/>
              </a:rPr>
              <a:t>Current Program Status Reg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2824200"/>
            <a:ext cx="853416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dividual bits represent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Negative result from 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 Zero result from 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ALU operation Carry o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ALU operation oVerflow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 Cumulative Saturation (also described as “sticky”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 Indicates if processor is in Jazelle s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[3:0] Used by some SIMD instru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[7:2] IF THEN conditional execution of Thumb2 instruction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bit controls load/store endiann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it disables imprecise data ab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Disables IR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Disables FI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T = 1 Indicates processor in Thumb st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[4:0] Specify the processor mode (FIQ, IRQ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8" descr=""/>
          <p:cNvPicPr/>
          <p:nvPr/>
        </p:nvPicPr>
        <p:blipFill>
          <a:blip r:embed="rId1"/>
          <a:stretch/>
        </p:blipFill>
        <p:spPr>
          <a:xfrm>
            <a:off x="-77760" y="1733400"/>
            <a:ext cx="93171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2:29:33Z</dcterms:created>
  <dc:creator>DB</dc:creator>
  <dc:description/>
  <dc:language>en-US</dc:language>
  <cp:lastModifiedBy>db</cp:lastModifiedBy>
  <dcterms:modified xsi:type="dcterms:W3CDTF">2015-03-09T19:43:42Z</dcterms:modified>
  <cp:revision>161</cp:revision>
  <dc:subject/>
  <dc:title>ARM asembler</dc:title>
</cp:coreProperties>
</file>