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C4C-8405-4324-A6F8-B5EED5A3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3C8-144D-452E-B63A-AE0EC2EF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917-6B6E-4F88-BA9B-8C6BF9AF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7A9-4869-4FC1-A340-74F56532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ECD-3956-4C7B-9B20-754D462D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582-BB9F-4D48-8769-7A0B1B0B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032-0A54-470B-957C-19CF4BC6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788-AE8B-4BEC-ACF8-CB4BEE1B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DFC-8921-4752-8150-F402E061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E65-AA27-40FF-AFE3-5AFBD348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7A1-BF4D-42F3-82BD-6DDA1C76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DBA-DE72-4A6A-9E25-BC1AB6C2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8A53-BD35-4173-BD36-9E91BE58D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4DD4-D5B0-40FE-8D38-63C3028CA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zvoj programa za ARM arhitektur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uz korišćenje dibagera gd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Izvršavanje pod kontrolom dibag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DB6A-3BC2-4B0F-91A2-623DC1BF8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41200" y="716040"/>
            <a:ext cx="6877080" cy="16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1809720" y="1647720"/>
            <a:ext cx="68770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Izvršavanje pod kontrolom dibag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925560"/>
            <a:ext cx="822960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dajemo breakpoint na početak main funkcije i komandu cont. da se program počne izvrša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db) break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eakpoint 1 at 0x8450: file hello.c, line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db)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eakpoint 1, main () at hello.c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(i=1; i&lt;=3; i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vršavanje je pauzirano na liniji 5, što je prva izvršna linija funkcije m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F517-C89C-463F-B017-2DB625D0B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Izvršavanje pod kontrolom dibag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925560"/>
            <a:ext cx="822960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jzodnije je koristiti tui režim gdba, koji možemo aktivirati sa ctrl-x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atno, da ne bismo kucali komande u (gdb) promptu, možemo aktivirati single key režim sa ctrl-x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da možemo upravljati gdb-om pojedinim tasterima sa tast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1DC4-762F-443D-B926-56BA9B544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Izvršavanje pod kontrolom dibagera</a:t>
            </a:r>
            <a:br>
              <a:rPr sz="3600"/>
            </a:b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(tui režim, single k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C9DA-80DA-418F-8899-F04659CBF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84280" y="1249200"/>
            <a:ext cx="76104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db tui single key koma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258920"/>
            <a:ext cx="852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zvršavanje programa za jednu liniju uz ulaženje u pozvane fun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lično kao step, ali se ne ulazi u pozvane funkcije, nego se poziv izvrši kompletno u jednom next kora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 loc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ikaz vrednosti promenljiv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zvršavanje do izlaska iz tekuće fun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zvršavanje “punom brzinom” do sledeće prekidne tačke ili kraja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– izlaz iz single key režima, dobija se (gdb) prom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EF65-8410-432B-AACE-5C3AA657B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eke korisne (gdb) kom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ena vrednosti promenljiv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db) set var i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is vrednosti promenlj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db) prin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pisivanje na kom mestu je prekinuto izvršavanje programa (w u single key reži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db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20CD-FF54-47F1-AB48-66EFF1F18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Kraj izvršavanja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e nekog continue, gdb će ispisa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ferior 1 (Remote target) exited normally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drugom (qemu) terminalu biće izlaz progr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dravo svete 1. 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dravo svete 2. 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dravo svete 3. 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C27D-CFA0-451E-A347-8A55E35B4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Programiranje na ARM asemble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83340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text @ direktno poziva sistemske servise linux kern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globl _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st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syscall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r7, #4 @ redni broj poz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r0, #1 @ st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r r1,=HelloWorldString @ poru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r2, #12 @ duzina por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c #0     @ obavlja poz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syscall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r7, #1 @ redni broj poz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r0, #0 @ izlazni status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c #0 @ obavlja poz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WorldString: .ascii "Hello World\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0036-D069-43B2-8C08-872724931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57200" y="833400"/>
            <a:ext cx="8229600" cy="58881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777000" y="6303960"/>
            <a:ext cx="1909800" cy="417600"/>
          </a:xfrm>
          <a:prstGeom prst="rect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mhello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Programiranje na ARM asemble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s linux sistemskih servisa može se dobiti 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man sys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vencija pozivanja iz ARM asemble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ni broj poziva ide u R7 (brojevi se mogu videti u /usr/arm-linux-gnueabi/include/asm/unistd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tali argumenti idu u R0 – R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se instrukcijom softverskog prekida SVC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E918-DF43-4C51-831E-0F1C1256F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4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Programiranje na ARM asemble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2000" y="1600200"/>
            <a:ext cx="898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ođ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arm-linux-gnueabi-gc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nostdli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g asmhello.s -o asm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kle, samo se doda uputstvo kompajleru da ne linkuje C standardne biblioteke sa program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vršavanje i debagovanje ide isto kao što je opisano za C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364F-615F-4B5F-A974-09B7FBB5C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U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o World na višem programskom jeziku (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 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3; i++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Zdravo svete %d. put\n", 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68A2-DC1D-4A25-B329-0142DAF73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" y="2125800"/>
            <a:ext cx="8229600" cy="40003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6761160" y="2135160"/>
            <a:ext cx="1909800" cy="417600"/>
          </a:xfrm>
          <a:prstGeom prst="rect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lo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9520" y="274320"/>
            <a:ext cx="847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bagovanje asemblerskog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isno je u tui režimu otvoriti dodatan prozor koji ispisuje vrednosti procesorskih regist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db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out re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vara novi prozor (osim izvornog programa) u kome prikazuje vrednosti procesorskih regist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ući prozor menja se s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rl-x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ena vrednosti registra (koristiti $ime registr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db) set $r0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30FE-4177-41B1-8339-DC04C7394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080" y="27432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bagovanje asemblerskog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4FC7-1800-4BD4-97D9-88FB50B1E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782640" y="1406520"/>
            <a:ext cx="77058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Kako da vidimo asm kod koji generiše C kompajl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8240" y="1461960"/>
            <a:ext cx="900576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va varijanta: gcc nateramo da generiše .s fajl iz .c faj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arm-linux-gnueabi-gcc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llo.c –o hello.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a varijanta: objdump (iz binutils za gcc) može da disasemblira izvršni k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arm-linux-gnueabi-objdump –d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8388 &lt;main&gt;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8388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92d4800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fp, l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838c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28db004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p, sp,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8390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30803f8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ov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0, #3378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0x83f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8394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3400000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ov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0, #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8398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bffffc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82dc &lt;_init+0x2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839c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1a00003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0, 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83a0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8bd8800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o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fp, pc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C6C7-4DD9-46E8-8663-53A5A9B04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U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ko prevesti i izvršiti (u nedostatku ARM hardvera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krsna kompilacija (cross compilation) na PC-ju (kompajler koji se izvršava na x86 mašini, a generiše mašinski kod za ARM), 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verska emulacija ARM procesora na x86 hardveru (qem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debugging (debagovanje na udaljenoj mašini, u ovom slučaju softverskom emulatoru) sa gnu dibagerom g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900B-D258-46CC-86AD-E5C2CEC4B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Uspostavljanje radnog okruže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027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 se na Ubuntu 14.04 LTS operativnom sistemu koji se može instalirati i iz Windowsa kao wubi instalacija ili u okviru Oracle VirtualBox kao virtuelna maš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voriti terminal i zadati sledeće koma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irati Linaro gnu alate za kros kompilaciju na arm: $ sudo apt-get install gcc-arm-linux-gnuea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irati Qemu user mode emulato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udo apt-get install qemu-user-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irati odgovarajući dibag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udo apt-get install gdb-multi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avljanje promenljive okruženj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export QEMU_LD_PREFIX=/usr/arm-linux-gnuea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E6D8-9322-41BD-B6C5-FBDA6B4F2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Prevođenje C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176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raviti fajl hello.c sa izvornim program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nano hello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ođenje programa (otkucati u terminalu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arm-linux-gnueabi-gcc hello.c –o 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lazni fajl je hello.c a izlazni fajl sa mašinskim kodom se zove hello, tako je zadato opcijom –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ra da li smo stvarno dobili arm izvršni fajl (fajl komanda ispisuje tip fajl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file 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lo: ELF 32-bit LSB executable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LF je izvršni tip fajla na Linuxu, slično .exe fajlu na windows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99DA-A1A1-4E31-84BC-EC865736B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Izvršavanje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81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kretanje programa bez dibager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 može samo hello jer bi Linux mislio da želimo ugrađenu komandu i ne bi tražio u tekućem folderu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./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ravo svete 1.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ravo svete 2.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ravo svete 3.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kernel prema tipu fajla (ELF za ARM) nalaz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e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mulator i u pozadini ga pokreće dostavljajući mu naš izvršni program (ova funkcija kernela zove se binfmt_mi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6BDC-2BD1-48B5-B623-9EA020963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Izvršavanje pod kontrolom dibag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836280"/>
            <a:ext cx="82296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ger je alat koji služi za pomoć pri otklanjanju grešaka u progr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ger omogućava izvršavanje programa korak po korak, prekid izvršavanja programa u unapred definisanoj tački (breakpoint), pregledanje vrednosti lokalnih promenljivih,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ođenje programa sa ugrađivanjem debuggerskih informacija u izvršni program (-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arm-linux-gnueabi-gcc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–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lo.c –o 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EAA0-503C-4D8D-AF2A-15966711A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Izvršavanje pod kontrolom dibag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836280"/>
            <a:ext cx="82296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vršavanje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qemu-arm-static –g 12345 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ime smo eksplicitno startovali hello putem qemu i naložili mu da aktivira interni gdb server koji sluša na TCP portu 12345 (tzv. remote debugging) i čeka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kle, fizička mašina (PC) i softverska mašina (qemu) povezani su ethernet vez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0272-60C2-4CFB-99C4-A066A5309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Izvršavanje pod kontrolom dibag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836280"/>
            <a:ext cx="82296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drugom terminalu (drugi proces) treba startovati gdb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gdb-multiarch 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 se menja u (gdb) čime znamo da zadajemo komande dibag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db) set arch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db) target remote :12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dato je da je arhitektura ARM i da debugger treba da se poveže sa udaljenom mašinom preko TCP porta 12345 (ime hosta podrazumeva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b daje upozorenje da ne može da se debaguje unutar deljenih biblioteka (ignorisa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08AD-1E42-45D9-BB0A-C72D3AB56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2:29:33Z</dcterms:created>
  <dc:creator>DB</dc:creator>
  <dc:description/>
  <dc:language>en-US</dc:language>
  <cp:lastModifiedBy>db</cp:lastModifiedBy>
  <dcterms:modified xsi:type="dcterms:W3CDTF">2015-03-08T23:54:48Z</dcterms:modified>
  <cp:revision>213</cp:revision>
  <dc:subject/>
  <dc:title>ARM asembler</dc:title>
</cp:coreProperties>
</file>