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B81-5651-4E1E-9107-43AF7F3E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DEA-C682-426B-BF9B-367F8A83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CAF-D480-4ABC-AAD2-2E9E9748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508-526A-468E-9C2A-E5DE17BD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36E-82F3-4E55-BA15-82ABD338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B7DB-77EB-4326-AE8A-7A4B7F62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DDD-E11F-4631-ABCA-91B3D7D2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02A-4636-4AAA-9C7C-5574958F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9AA-B1C4-4BFD-91BC-3FA12A54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EB7-47C2-4AF8-9155-DB231347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06E-BCC4-4094-A55F-7FC04D70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BEF-F66F-4EF0-A89A-A9D082B4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FB0C-8F08-4D77-910B-4D3B776E4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NU Programski ala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 prevođenja 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$ arm-linux-gnueabi-objdump -f -t -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ello.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objdump prikazuje imformacije o objektnim i izvršnim fajlovim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 hederi, -t simboli, -d disasemble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ello.o:     file format elf32-littlea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chitecture: arm, flags 0x00000011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S_RELOC, HAS_SY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rt address 0x00000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YMBOL TABL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00 l    df *ABS*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00 hello.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00 l    d  .tex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00 .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00 l    d  .dat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00 .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00 l    d  .bs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00 .b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00 l    d  .rodat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00 .ro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00 l    d  .note.GNU-stack 00000000 .note.GNU-stac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00 l    d  .commen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00 .com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00 l    d  .ARM.attribut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00 .ARM.attribu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00 g     F .tex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1c m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00         *UND*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00 pu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724280" y="1619280"/>
            <a:ext cx="4572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sassembly of section .tex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0000000 &lt;main&gt;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 e92d4800  pus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{fp, lr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 e28db004  ad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p, sp, #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8:  e59f0008    ld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0, [pc, #8]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 18 &lt;main+0x18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:  ebfffffe        b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 &lt;pu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0:  e1a00003  mo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0, r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4:  e8bd8800  po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{fp, pc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8:  00000000  .word  0x000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6938640" y="5257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llo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 prevođenja 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</a:rPr>
              <a:t>Faza povezivanj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Primetiti da program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hell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oziva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print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unkciju, koja je deo standardne C biblioteke koje pruža svaki C kompajl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printf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unkcija nalazi se u posebnom pretkompajliranom objektnom fajlu pod nazivom printf.o, koji mora nekako da se spoji sa našim hello.o programo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nker (ld) obavlja ovo povezivanje. Rezultat j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hell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ajl, koji je izvršni objektni fajl (ili jednostavno izvršni fajl) koji je spreman da se učita u memoriju i izvršava od strane operativnog sistem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 prevođenja 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Faza povezivanj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Da bismo znali kako tačno pozvati linker (ld) korisno je zadati verbose opciju gcc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-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ello.c –o hello  koja ispisuje kako prednji kraj poziva svaki alat (collect2  je fasada za ld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. 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usr/lib/gcc/arm-linux-gnueabi/4.6/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c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quiet -v -imultilib . -imultiarch arm-linux-gnueabi hello.c -quiet -dumpbase hello.c -march=armv7-a -mfloat-abi=softfp -mfpu=vfpv3-d16 -mthumb -auxbase hello -version -fstack-protector -o /tmp/ccABMJ6E.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. 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usr/lib/gcc/arm-linux-gnueabi/4.6/../../../../arm-linux-gnueabi/bin/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march=armv7-a -mfloat-abi=softfp -mfpu=vfpv3-d16 -meabi=5 -o /tmp/ccfgZLdU.o /tmp/ccABMJ6E.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. 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usr/lib/gcc/arm-linux-gnueabi/4.6/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ollect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-build-id --no-add-needed --as-needed --eh-frame-hdr -dynamic-linker /lib/ld-linux.so.3 -X --hash-style=gnu -m armelf_linux_eabi -z relro -o hello /usr/lib/gcc/arm-linux-gnueabi/4.6/../../../../arm-linux-gnueabi/lib/../lib/crt1.o /usr/lib/gcc/arm-linux-gnueabi/4.6/../../../../arm-linux-gnueabi/lib/../lib/crti.o /usr/lib/gcc/arm-linux-gnueabi/4.6/crtbegin.o -L/usr/lib/gcc/arm-linux-gnueabi/4.6 -L/usr/lib/gcc/arm-linux-gnueabi/4.6/../../../../arm-linux-gnueabi/lib/../lib -L/usr/lib/gcc/arm-linux-gnueabi/4.6/../../../../arm-linux-gnueabi/lib -L/lib/arm-linux-gnueabi -L/usr/lib/arm-linux-gnueabi -L/usr/lib -L/lib /tmp/ccfgZLdU.o -lgcc --as-needed -lgcc_s --no-as-needed -lc -lgcc --as-needed -lgcc_s --no-as-needed /usr/lib/gcc/arm-linux-gnueabi/4.6/crtend.o /usr/lib/gcc/arm-linux-gnueabi/4.6/../../../../arm-linux-gnueabi/lib/../lib/crtn.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 prevođenja 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80784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aza povezi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 komandnoj liniji linkera (ld) redosled zadavanja fajlova je sledeć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t1.o crti.o crtbegin.o [-L paths] [user objects] [gcc libs] [C libs] [gcc libs] crtend.o crtn.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formativno objašnjenje crt (</a:t>
            </a:r>
            <a:r>
              <a:rPr b="1" lang="en-US" sz="2400" spc="-1" strike="noStrike" u="sng">
                <a:solidFill>
                  <a:srgbClr val="1f497d"/>
                </a:solidFill>
                <a:uFillTx/>
                <a:latin typeface="Calibri"/>
              </a:rPr>
              <a:t>c run tim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) fajlo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koji daju podršku izvršavanju prevedenog C programa. To su male sekcije koda koje se ubacuju (ld) i izvršavaju na početku prevedenog C programa i na kraju. Ovaj kod se brine za inicijalizaciju globalnih promenjljivih, heap-a i stek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crt0.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lder style of the initial runtime code.  Usually not generated anymore with Linux toolchains, but often found in bare metal toolchains.  Serves same purpose as crt1.o (see below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 prevođenja 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crt1.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ewer style of the initial runtime code.  Contains the _start symbol which sets up the env with argc/argv/libc _init/libc _fini before jumping to the libc main.  glibc calls this file 'start.S'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crti.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fines the function prolog; _init in the .init section and _fini in the .fini section.  glibc calls this 'initfini.c'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crtn.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fines the function epilog.  glibc calls this 'initfini.c'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Scrt1.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sed in place of crt1.o when generating Position Independent Executables (PI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crt1.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sed in place of crt1.o when generating code with profiling information. Compile with -pg.  Produces output suitable for the gprof uti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Mcrt1.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ike gcrt1.o, but is used with the prof utility.  glibc installs this as a dummy file as it's useless on linux sys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 prevođenja 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crtbegin.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GCC uses this to find the start of the construc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crtbeginS.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sed in place of crtbegin.o when generating shared objects/P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crtbeginT.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sed in place of crtbegin.o when generating static executab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crtend.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GCC uses this to find the start of the destruc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crtendS.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sed in place of crtend.o when generating shared objects/P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 prevođenja 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666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aza povezivanj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Statičko povezivanj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(sav bibliotečki kod biće ubačen u izvršni fajl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ort L=/usr/arm-linux-gnueabi/li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ort L1=/usr/lib/gcc/arm-linux-gnueabi/4.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m-linux-gnueabi-ld  -L$L1 -static $L/crt1.o $L/crti.o $L1/crtbeginT.o hello.o -lc -lgcc -lgcc_eh $L1/crtend.o $L/crtn.o -o shell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00080" y="3724200"/>
            <a:ext cx="7143840" cy="2981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3657600" y="4343400"/>
            <a:ext cx="1600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2819520" y="380988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3891600" y="48880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t1.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 prevođenja 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Faza poveziva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namičko povezivanj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dinamički povezivač će u trenutku startovanja povezati kod našeg programa sa deljenom bibliotekom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rt L=/usr/arm-linux-gnueabi/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rt L1=/usr/lib/gcc/arm-linux-gnueabi/4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m-linux-gnueabi-ld  -dynamic-linker /lib/ld-linux.so.3 $L/crt1.o $L/crti.o $L1/crtbegin.o hello.o -lc $L1/crtend.o $L/crtn.o -o he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 prevođenja 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504800" y="1903320"/>
            <a:ext cx="6267600" cy="4848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2551680" y="121932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namičko povez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419720" y="1981080"/>
            <a:ext cx="1066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562720" y="3048120"/>
            <a:ext cx="1218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5486400" y="556272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ular Callout 9"/>
          <p:cNvSpPr/>
          <p:nvPr/>
        </p:nvSpPr>
        <p:spPr>
          <a:xfrm>
            <a:off x="609480" y="4876920"/>
            <a:ext cx="1752840" cy="838080"/>
          </a:xfrm>
          <a:prstGeom prst="wedgeRoundRectCallout">
            <a:avLst>
              <a:gd name="adj1" fmla="val 131342"/>
              <a:gd name="adj2" fmla="val 12523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 TRENUTKU IZVRŠAVANJA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 prevođenja 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čko vs dinamičko povezivanje – veličina izvršnog program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 ls –l 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wxrwxr-x 1 bb bb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84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r  3 18:02 he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w-------     1 bb bb          83 Mar  2 06:29 hello.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w-------     1 bb bb   19011 Mar  2 06:38 hello.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w-------     1 bb bb     1036 Mar  2 07:43 hello.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w-------     1 bb bb       692 Mar  2 07:32 hello.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w-------     1 bb bb     8552 Mar  2 08:12 hello.t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rwxrwxr-x 1 bb bb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5239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r  3 18:17 she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 prevođenja 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6665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omand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cc –save-temps -hello.c –o hell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kreće se proces prevođenja izvornog C programa u izvršni program na mašinskom jeziku (save temps opcija ne briše radne fajlove procesa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ces obuhvata faze makroprocesiranja, kompajliranja (prevođenja), asembliranja i povezivan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cc j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compiler driv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koji orkestrira pojedine ala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71280" y="914400"/>
            <a:ext cx="90014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 prevođenja 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457200"/>
            <a:ext cx="6324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lo:     file format elf32-littlea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chitecture: arm, flags 0x00000112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EC_P, HAS_SYMS, D_PA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t address 0x000083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MBOL TABL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. 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assembly of section .ini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0082bc &lt;_init&gt;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2bc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508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s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r3, lr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2be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000 f843  bl 8348 &lt;call_gmon_star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2c2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f00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2c4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d08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r3, pc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. 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assembly of section .tex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008310 &lt;_start&gt;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310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04f 0b0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.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p, #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314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04f 0e0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.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r, #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648320" y="139212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008388 &lt;main&gt;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388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580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s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r7, l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38a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00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7, sp, #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38c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248 30f0 movw r0, #33776 ; 0x83f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390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2c0 0000 mov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0, #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394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7ff efa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x 82dc &lt;_init+0x2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398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618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0, 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39a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d80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r7, pc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assembly of section .fi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0083e4 &lt;_fini&gt;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3e4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508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s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r3, l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3e6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f00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3e8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d08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r3, pc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 prevođenja 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llo.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include &lt;stdio.h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define PORUKA "Zdravo svete.\n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() 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ntf(PORUK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 prevođenja 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</a:rPr>
              <a:t>Faza makroprocesiranja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etprocesor (cpp) menja originalni C program prema direktivama koje počinju # znakom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 primer, #include komanda u liniji 1 hello.c govori pretprocesoru da pročita sadržaj sistemskog stdio.h zaglavlja datoteke i ubaci ga direktno u programski teks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#define vrši zamenu makroimena PORUKA tekstom zamene “Zdravo svete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zultat je još jedan C program hello.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Eksplicitan poziv: cpp hello.c –o hello.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 prevođenja 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hello.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# 1 "hello.c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# 1 "/usr/arm-linux-gnueabi/include/stdio.h" 1 3 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. .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tern int printf (__const char *__restrict __format, ...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. .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# 2 "hello.c" 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in() {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intf("Zdravo svete.\n"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 prevođenja 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Calibri"/>
              </a:rPr>
              <a:t>Faza kompilacij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Prevodilac (cc1) prevodi tekst datotek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hello.i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u tekstualni fajl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hello.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koji sadrži program u asemblerskom jeziku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vaka naredba asemblerskog programa opisuje jednu naredbu u mašinskom jeziku. Asemblerski jezik je zajednički izlaz za različite kompajlere (na primer, C kompajler i Fortran kompajler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rektan poziv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cc -print-prog-name=cc1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/usr/lib/gcc/arm-linux-gnueabi/4.6/cc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/usr/lib/gcc/arm-linux-gnueabi/4.6/cc1 hello.i –o hello.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 prevođenja 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14300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ello.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cpu arm10td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fpu softvf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fi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hello.i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sec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ro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alig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LC0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asci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Zdravo svete.\000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alig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glob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typ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, %fun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505320" y="1371600"/>
            <a:ext cx="6019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args = 0, pretend = 0, fra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frame_needed = 1, uses_anonymous_arg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mf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!, {fp, l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p, sp,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d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0, .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0, 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dmf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!, {fp, pc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L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alig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L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wo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L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siz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, .-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id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GCC: (Ubuntu/Linaro 4.6.3-1ubuntu5) 4.6.3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sec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note.GNU-stack,"",%prog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 prevođenja 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</a:rPr>
              <a:t>Faza asembliranj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Asembler (as) prevodi hello.s u mašinski jezik, pakuje ga u obliku poznatom kao relokativni objektni program i čuva rezultat u hello.o objektnoj datoteci. Hello.o fajl je binarni fajl koji pored bajtova mašinskih instrukcija čuva još informacije o globalnim simbolima it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rektno pozivanje: as hello.s -o hello.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le hello.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llo.o: ELF 32-bit LSB relocatable, ARM, version 1 (SYSV), not stripp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 prevođenja 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46160" y="1066680"/>
            <a:ext cx="70516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5:11:29Z</dcterms:created>
  <dc:creator>db</dc:creator>
  <dc:description/>
  <dc:language>en-US</dc:language>
  <cp:lastModifiedBy>db</cp:lastModifiedBy>
  <dcterms:modified xsi:type="dcterms:W3CDTF">2013-03-06T08:56:20Z</dcterms:modified>
  <cp:revision>49</cp:revision>
  <dc:subject/>
  <dc:title>Programski alati</dc:title>
</cp:coreProperties>
</file>